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28B-643B-4B23-879C-A82DF4756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-(1+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2 ten dollar b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two students and offer then $10 each.  However, if either chooses to risk it all, flip a coin for who gets both, other getting zero.  First to choose risking calls H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6AC-E28D-4645-BE5E-41E94ED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420-B896-4B3C-947C-0A2788D8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9AD-260D-463B-9E46-C1023829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0BC-8223-4648-AFF6-6683B3D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172-2D86-4590-B560-D9178F74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177-C3E7-4C80-9199-943244A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E95-9205-42FF-82AA-7B7E916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F30-A439-43D5-A80E-1E3B7144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55B-98DA-4447-9101-8D455F7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558-A94A-44DD-A1AE-8389C5A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CC9-9103-4AAA-8CE1-6C8C745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9FB-997B-4B8F-B667-686EEF4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FD2-39A6-4541-9C9E-528662A8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gradient, direction of steepest ascen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entails gradient perpendicular to budge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38080" y="1752480"/>
                <a:ext cx="35053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income sh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85800" y="1523880"/>
                <a:ext cx="35053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85800" y="2362320"/>
                <a:ext cx="6324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y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3520" y="4191120"/>
                <a:ext cx="380988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may rise when price go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990720"/>
            <a:ext cx="7835400" cy="4114800"/>
            <a:chOff x="380880" y="990720"/>
            <a:chExt cx="7835400" cy="4114800"/>
          </a:xfrm>
        </p:grpSpPr>
        <p:grpSp>
          <p:nvGrpSpPr>
            <p:cNvPr id="125" name=""/>
            <p:cNvGrpSpPr/>
            <p:nvPr/>
          </p:nvGrpSpPr>
          <p:grpSpPr>
            <a:xfrm>
              <a:off x="655200" y="990720"/>
              <a:ext cx="5988240" cy="4114440"/>
              <a:chOff x="655200" y="990720"/>
              <a:chExt cx="5988240" cy="41144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55560" y="1307160"/>
                <a:ext cx="5773320" cy="3798000"/>
                <a:chOff x="655560" y="1307160"/>
                <a:chExt cx="5773320" cy="37980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55560" y="1307160"/>
                  <a:ext cx="0" cy="37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55560" y="5105160"/>
                  <a:ext cx="577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6566400" y="478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5200" y="990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80880" y="1465920"/>
              <a:ext cx="7835400" cy="3639600"/>
              <a:chOff x="380880" y="1465920"/>
              <a:chExt cx="7835400" cy="3639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55560" y="1782000"/>
                <a:ext cx="5223600" cy="332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655560" y="2731680"/>
                <a:ext cx="5223600" cy="237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800000">
                <a:off x="3817800" y="1465920"/>
                <a:ext cx="4398480" cy="316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47400">
                <a:off x="1342440" y="2515680"/>
                <a:ext cx="4948920" cy="2215800"/>
              </a:xfrm>
              <a:custGeom>
                <a:avLst/>
                <a:gdLst/>
                <a:ahLst/>
                <a:rect l="l" t="t" r="r" b="b"/>
                <a:pathLst>
                  <a:path w="2760" h="1800">
                    <a:moveTo>
                      <a:pt x="2760" y="1800"/>
                    </a:moveTo>
                    <a:cubicBezTo>
                      <a:pt x="2090" y="1590"/>
                      <a:pt x="1420" y="1380"/>
                      <a:pt x="960" y="1080"/>
                    </a:cubicBezTo>
                    <a:cubicBezTo>
                      <a:pt x="500" y="780"/>
                      <a:pt x="250" y="390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560" y="4213080"/>
                <a:ext cx="392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55200" y="3997800"/>
                <a:ext cx="274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80880" y="39974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rot="19918200">
              <a:off x="655200" y="2256120"/>
              <a:ext cx="687240" cy="369000"/>
            </a:xfrm>
            <a:custGeom>
              <a:avLst/>
              <a:gdLst/>
              <a:ahLst/>
              <a:rect l="l" t="t" r="r" b="b"/>
              <a:pathLst>
                <a:path w="600" h="420">
                  <a:moveTo>
                    <a:pt x="600" y="60"/>
                  </a:moveTo>
                  <a:cubicBezTo>
                    <a:pt x="410" y="30"/>
                    <a:pt x="220" y="0"/>
                    <a:pt x="120" y="60"/>
                  </a:cubicBezTo>
                  <a:cubicBezTo>
                    <a:pt x="20" y="120"/>
                    <a:pt x="20" y="360"/>
                    <a:pt x="0" y="42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increase represents a decrease in purchasing power plus a change in relativ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and income effects separate these two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Effect Holds Utility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6120" y="612000"/>
            <a:ext cx="8375760" cy="5407920"/>
            <a:chOff x="456120" y="612000"/>
            <a:chExt cx="8375760" cy="5407920"/>
          </a:xfrm>
        </p:grpSpPr>
        <p:grpSp>
          <p:nvGrpSpPr>
            <p:cNvPr id="144" name=""/>
            <p:cNvGrpSpPr/>
            <p:nvPr/>
          </p:nvGrpSpPr>
          <p:grpSpPr>
            <a:xfrm>
              <a:off x="456120" y="612000"/>
              <a:ext cx="8375760" cy="5407920"/>
              <a:chOff x="456120" y="612000"/>
              <a:chExt cx="8375760" cy="5407920"/>
            </a:xfrm>
          </p:grpSpPr>
          <p:sp>
            <p:nvSpPr>
              <p:cNvPr id="145" name=""/>
              <p:cNvSpPr/>
              <p:nvPr/>
            </p:nvSpPr>
            <p:spPr>
              <a:xfrm>
                <a:off x="4682160" y="4443120"/>
                <a:ext cx="170640" cy="115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456120" y="612000"/>
                <a:ext cx="8375760" cy="5407920"/>
                <a:chOff x="456120" y="612000"/>
                <a:chExt cx="8375760" cy="540792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56120" y="1295280"/>
                  <a:ext cx="7480800" cy="4724280"/>
                  <a:chOff x="456120" y="1295280"/>
                  <a:chExt cx="7480800" cy="472428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457200" y="1658520"/>
                    <a:ext cx="7179480" cy="4361040"/>
                    <a:chOff x="457200" y="1658520"/>
                    <a:chExt cx="7179480" cy="43610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57200" y="1658520"/>
                      <a:ext cx="0" cy="436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57200" y="6019560"/>
                      <a:ext cx="7179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7808040" y="565632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56120" y="129528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56840" y="612000"/>
                  <a:ext cx="8375040" cy="5407920"/>
                  <a:chOff x="456840" y="612000"/>
                  <a:chExt cx="8375040" cy="5407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57200" y="2203560"/>
                    <a:ext cx="6495480" cy="3816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flipV="1">
                    <a:off x="456840" y="4566240"/>
                    <a:ext cx="6495480" cy="1453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2679480" y="611640"/>
                    <a:ext cx="6152400" cy="3997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flipV="1">
                    <a:off x="969480" y="3657600"/>
                    <a:ext cx="6495480" cy="145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>
                    <a:off x="3533760" y="2748960"/>
                    <a:ext cx="170640" cy="109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020040" y="2022120"/>
                    <a:ext cx="721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i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04760" y="4566240"/>
                    <a:ext cx="62640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900">
                        <a:moveTo>
                          <a:pt x="560" y="0"/>
                        </a:moveTo>
                        <a:cubicBezTo>
                          <a:pt x="360" y="105"/>
                          <a:pt x="160" y="210"/>
                          <a:pt x="80" y="360"/>
                        </a:cubicBezTo>
                        <a:cubicBezTo>
                          <a:pt x="0" y="510"/>
                          <a:pt x="80" y="810"/>
                          <a:pt x="80" y="90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  <a:tailEnd len="med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046760" y="4748040"/>
                    <a:ext cx="64368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437160" y="4021200"/>
                    <a:ext cx="138744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mpensate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hoic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4901040" y="4202640"/>
                    <a:ext cx="1367640" cy="18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4" name=""/>
            <p:cNvSpPr/>
            <p:nvPr/>
          </p:nvSpPr>
          <p:spPr>
            <a:xfrm>
              <a:off x="3472560" y="3948120"/>
              <a:ext cx="171000" cy="11592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gel cur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consumption a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8400" y="2171160"/>
            <a:ext cx="5684400" cy="3966480"/>
            <a:chOff x="608400" y="2171160"/>
            <a:chExt cx="5684400" cy="3966480"/>
          </a:xfrm>
        </p:grpSpPr>
        <p:grpSp>
          <p:nvGrpSpPr>
            <p:cNvPr id="168" name=""/>
            <p:cNvGrpSpPr/>
            <p:nvPr/>
          </p:nvGrpSpPr>
          <p:grpSpPr>
            <a:xfrm>
              <a:off x="608400" y="2666880"/>
              <a:ext cx="5118120" cy="3470760"/>
              <a:chOff x="608400" y="2666880"/>
              <a:chExt cx="5118120" cy="34707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09480" y="2930760"/>
                <a:ext cx="4871880" cy="3165480"/>
                <a:chOff x="609480" y="2930760"/>
                <a:chExt cx="4871880" cy="3165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09480" y="2930760"/>
                  <a:ext cx="0" cy="316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480" y="6096240"/>
                  <a:ext cx="487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597640" y="58323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8400" y="2666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09480" y="3326400"/>
              <a:ext cx="4407840" cy="27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2117520" y="217080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4249440"/>
              <a:ext cx="2899800" cy="18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80" y="5304600"/>
              <a:ext cx="1159920" cy="79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0800000">
              <a:off x="1421640" y="2666880"/>
              <a:ext cx="4175280" cy="290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841680" y="4118400"/>
              <a:ext cx="2550960" cy="184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3722040"/>
              <a:ext cx="3596040" cy="2374200"/>
            </a:xfrm>
            <a:custGeom>
              <a:avLst/>
              <a:gdLst/>
              <a:ahLst/>
              <a:rect l="l" t="t" r="r" b="b"/>
              <a:pathLst>
                <a:path w="3720" h="3240">
                  <a:moveTo>
                    <a:pt x="0" y="3240"/>
                  </a:moveTo>
                  <a:cubicBezTo>
                    <a:pt x="180" y="3075"/>
                    <a:pt x="360" y="2910"/>
                    <a:pt x="600" y="2700"/>
                  </a:cubicBezTo>
                  <a:cubicBezTo>
                    <a:pt x="840" y="2490"/>
                    <a:pt x="1160" y="2220"/>
                    <a:pt x="1440" y="1980"/>
                  </a:cubicBezTo>
                  <a:cubicBezTo>
                    <a:pt x="1720" y="1740"/>
                    <a:pt x="1900" y="1590"/>
                    <a:pt x="2280" y="1260"/>
                  </a:cubicBezTo>
                  <a:cubicBezTo>
                    <a:pt x="2660" y="930"/>
                    <a:pt x="3190" y="465"/>
                    <a:pt x="3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6840" y="-295560"/>
            <a:ext cx="7524000" cy="6086880"/>
            <a:chOff x="456840" y="-295560"/>
            <a:chExt cx="7524000" cy="6086880"/>
          </a:xfrm>
        </p:grpSpPr>
        <p:grpSp>
          <p:nvGrpSpPr>
            <p:cNvPr id="183" name=""/>
            <p:cNvGrpSpPr/>
            <p:nvPr/>
          </p:nvGrpSpPr>
          <p:grpSpPr>
            <a:xfrm>
              <a:off x="456840" y="1295280"/>
              <a:ext cx="7524000" cy="4496040"/>
              <a:chOff x="456840" y="1295280"/>
              <a:chExt cx="7524000" cy="4496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57200" y="1641240"/>
                <a:ext cx="7272000" cy="4150080"/>
                <a:chOff x="457200" y="1641240"/>
                <a:chExt cx="7272000" cy="4150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57200" y="1641240"/>
                  <a:ext cx="0" cy="415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7200" y="5791320"/>
                  <a:ext cx="727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7903800" y="5445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840" y="1295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7200" y="2159640"/>
              <a:ext cx="6579360" cy="36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976320" y="-29556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370320"/>
              <a:ext cx="432864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4753440"/>
              <a:ext cx="1731600" cy="103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149480" y="990720"/>
              <a:ext cx="6232680" cy="38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803520" y="3197880"/>
              <a:ext cx="3808080" cy="24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1986840"/>
              <a:ext cx="1846440" cy="3804120"/>
            </a:xfrm>
            <a:custGeom>
              <a:avLst/>
              <a:gdLst/>
              <a:ahLst/>
              <a:rect l="l" t="t" r="r" b="b"/>
              <a:pathLst>
                <a:path w="1280" h="3960">
                  <a:moveTo>
                    <a:pt x="0" y="3960"/>
                  </a:moveTo>
                  <a:cubicBezTo>
                    <a:pt x="200" y="3825"/>
                    <a:pt x="400" y="3690"/>
                    <a:pt x="600" y="3420"/>
                  </a:cubicBezTo>
                  <a:cubicBezTo>
                    <a:pt x="800" y="3150"/>
                    <a:pt x="1120" y="2730"/>
                    <a:pt x="1200" y="2340"/>
                  </a:cubicBezTo>
                  <a:cubicBezTo>
                    <a:pt x="1280" y="1950"/>
                    <a:pt x="1160" y="1470"/>
                    <a:pt x="1080" y="1080"/>
                  </a:cubicBezTo>
                  <a:cubicBezTo>
                    <a:pt x="1000" y="690"/>
                    <a:pt x="860" y="345"/>
                    <a:pt x="72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omposition into Substitution and Incom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6840" y="110160"/>
            <a:ext cx="7889760" cy="5727600"/>
            <a:chOff x="456840" y="110160"/>
            <a:chExt cx="7889760" cy="5727600"/>
          </a:xfrm>
        </p:grpSpPr>
        <p:grpSp>
          <p:nvGrpSpPr>
            <p:cNvPr id="198" name=""/>
            <p:cNvGrpSpPr/>
            <p:nvPr/>
          </p:nvGrpSpPr>
          <p:grpSpPr>
            <a:xfrm>
              <a:off x="1288440" y="110160"/>
              <a:ext cx="6802920" cy="5727600"/>
              <a:chOff x="1288440" y="110160"/>
              <a:chExt cx="6802920" cy="572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437000" y="41886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9659400">
                <a:off x="1791720" y="94320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6840" y="296280"/>
              <a:ext cx="7889760" cy="5495040"/>
              <a:chOff x="456840" y="296280"/>
              <a:chExt cx="7889760" cy="5495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56840" y="990720"/>
                <a:ext cx="7003440" cy="4800600"/>
                <a:chOff x="456840" y="990720"/>
                <a:chExt cx="7003440" cy="48006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457200" y="1360080"/>
                  <a:ext cx="6763320" cy="4431240"/>
                  <a:chOff x="457200" y="1360080"/>
                  <a:chExt cx="6763320" cy="44312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457200" y="1360080"/>
                    <a:ext cx="0" cy="443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57200" y="5791320"/>
                    <a:ext cx="676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7383240" y="542088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6840" y="9907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57200" y="1913760"/>
                <a:ext cx="6119280" cy="38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57200" y="4313880"/>
                <a:ext cx="6119280" cy="147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0800000">
                <a:off x="2550600" y="295920"/>
                <a:ext cx="5796000" cy="40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939960" y="3390480"/>
                <a:ext cx="6118920" cy="147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45800" y="4314240"/>
                <a:ext cx="10569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34240" y="3206160"/>
                <a:ext cx="1329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ubstitu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ffec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98320" y="3686400"/>
                <a:ext cx="160920" cy="11772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89840" y="3483360"/>
                <a:ext cx="965880" cy="646200"/>
              </a:xfrm>
              <a:custGeom>
                <a:avLst/>
                <a:gdLst/>
                <a:ahLst/>
                <a:rect l="l" t="t" r="r" b="b"/>
                <a:pathLst>
                  <a:path w="720" h="630">
                    <a:moveTo>
                      <a:pt x="0" y="90"/>
                    </a:moveTo>
                    <a:cubicBezTo>
                      <a:pt x="240" y="45"/>
                      <a:pt x="480" y="0"/>
                      <a:pt x="600" y="90"/>
                    </a:cubicBezTo>
                    <a:cubicBezTo>
                      <a:pt x="720" y="180"/>
                      <a:pt x="700" y="540"/>
                      <a:pt x="720" y="63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5760" y="4964400"/>
                <a:ext cx="16092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675960" y="4240080"/>
                <a:ext cx="869400" cy="66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w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leisure, reduc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price of lei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lei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upplied may decrease as wage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 Hours Worked Have F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086600" cy="5027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1800" y="1371600"/>
            <a:ext cx="5410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ages fell, income grew (two earner househol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7105320" cy="4419720"/>
            <a:chOff x="457200" y="1600200"/>
            <a:chExt cx="7105320" cy="441972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6508440" y="5487840"/>
                  <a:ext cx="54612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3" name=""/>
            <p:cNvGrpSpPr/>
            <p:nvPr/>
          </p:nvGrpSpPr>
          <p:grpSpPr>
            <a:xfrm>
              <a:off x="457200" y="1600200"/>
              <a:ext cx="7105320" cy="3793320"/>
              <a:chOff x="457200" y="1600200"/>
              <a:chExt cx="7105320" cy="37933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019880" y="1877760"/>
                <a:ext cx="6332760" cy="3471120"/>
                <a:chOff x="1019880" y="1877760"/>
                <a:chExt cx="6332760" cy="34711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019880" y="1877760"/>
                  <a:ext cx="0" cy="347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019880" y="5348880"/>
                  <a:ext cx="6332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7494840" y="521064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9480" y="1600200"/>
                <a:ext cx="6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19880" y="2571840"/>
                <a:ext cx="5769720" cy="277668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457200" y="2294280"/>
                    <a:ext cx="523080" cy="53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" name=""/>
              <p:cNvSpPr/>
              <p:nvPr/>
            </p:nvSpPr>
            <p:spPr>
              <a:xfrm>
                <a:off x="4397400" y="3127320"/>
                <a:ext cx="150336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dget L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3130560" y="3266280"/>
                <a:ext cx="112572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22600" y="4238640"/>
                <a:ext cx="1064520" cy="39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dget S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86000" y="1600200"/>
                <a:ext cx="3962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2819520"/>
                <a:ext cx="44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δ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temporal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600" y="758160"/>
            <a:ext cx="7765920" cy="5763240"/>
            <a:chOff x="228600" y="758160"/>
            <a:chExt cx="7765920" cy="5763240"/>
          </a:xfrm>
        </p:grpSpPr>
        <p:grpSp>
          <p:nvGrpSpPr>
            <p:cNvPr id="229" name=""/>
            <p:cNvGrpSpPr/>
            <p:nvPr/>
          </p:nvGrpSpPr>
          <p:grpSpPr>
            <a:xfrm>
              <a:off x="228600" y="758160"/>
              <a:ext cx="7765920" cy="5763240"/>
              <a:chOff x="228600" y="758160"/>
              <a:chExt cx="7765920" cy="5763240"/>
            </a:xfrm>
          </p:grpSpPr>
          <p:sp>
            <p:nvSpPr>
              <p:cNvPr id="230" name=""/>
              <p:cNvSpPr/>
              <p:nvPr/>
            </p:nvSpPr>
            <p:spPr>
              <a:xfrm rot="10678200">
                <a:off x="3137040" y="841680"/>
                <a:ext cx="4784400" cy="419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46840" y="1964160"/>
                <a:ext cx="5488560" cy="4372920"/>
                <a:chOff x="1446840" y="1964160"/>
                <a:chExt cx="5488560" cy="43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446840" y="1964160"/>
                  <a:ext cx="0" cy="437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446840" y="6337080"/>
                  <a:ext cx="548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009560" y="61743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51880" y="160020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6840" y="2553120"/>
                <a:ext cx="4763160" cy="38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6280" y="274392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91880" y="4383000"/>
                <a:ext cx="132840" cy="1216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765520" y="4106160"/>
                <a:ext cx="508320" cy="1595160"/>
              </a:xfrm>
              <a:custGeom>
                <a:avLst/>
                <a:gdLst>
                  <a:gd name="textAreaLeft" fmla="*/ 324720 w 508320"/>
                  <a:gd name="textAreaRight" fmla="*/ 508680 w 508320"/>
                  <a:gd name="textAreaTop" fmla="*/ 41400 h 1595160"/>
                  <a:gd name="textAreaBottom" fmla="*/ 1553760 h 159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55120" y="5412240"/>
                <a:ext cx="11973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eriod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orrow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57720" y="3124800"/>
                <a:ext cx="664560" cy="1524600"/>
              </a:xfrm>
              <a:custGeom>
                <a:avLst/>
                <a:gdLst>
                  <a:gd name="textAreaLeft" fmla="*/ 424800 w 664560"/>
                  <a:gd name="textAreaRight" fmla="*/ 664920 w 664560"/>
                  <a:gd name="textAreaTop" fmla="*/ 39600 h 1524600"/>
                  <a:gd name="textAreaBottom" fmla="*/ 1485000 h 152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3506040"/>
                <a:ext cx="13600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pay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089440" y="3063240"/>
              <a:ext cx="13284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rower’s Income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7200" y="70920"/>
            <a:ext cx="8341560" cy="6194880"/>
            <a:chOff x="457200" y="70920"/>
            <a:chExt cx="8341560" cy="6194880"/>
          </a:xfrm>
        </p:grpSpPr>
        <p:sp>
          <p:nvSpPr>
            <p:cNvPr id="246" name=""/>
            <p:cNvSpPr/>
            <p:nvPr/>
          </p:nvSpPr>
          <p:spPr>
            <a:xfrm rot="10678200">
              <a:off x="2641320" y="17712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85280" y="1377360"/>
              <a:ext cx="6975360" cy="4644000"/>
              <a:chOff x="485280" y="1377360"/>
              <a:chExt cx="6975360" cy="4644000"/>
            </a:xfrm>
          </p:grpSpPr>
          <p:sp>
            <p:nvSpPr>
              <p:cNvPr id="248" name=""/>
              <p:cNvSpPr/>
              <p:nvPr/>
            </p:nvSpPr>
            <p:spPr>
              <a:xfrm>
                <a:off x="485280" y="1377360"/>
                <a:ext cx="0" cy="46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5280" y="6021360"/>
                <a:ext cx="697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559280" y="584928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120" y="9907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280" y="2002680"/>
              <a:ext cx="6053400" cy="40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13280" y="2205000"/>
              <a:ext cx="997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5720" y="3945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01760" y="2544480"/>
              <a:ext cx="16884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1395360"/>
              <a:ext cx="3655800" cy="46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678200">
              <a:off x="2200680" y="735840"/>
              <a:ext cx="6080400" cy="445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822040" y="4026600"/>
              <a:ext cx="50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4360" y="4026600"/>
              <a:ext cx="168840" cy="1292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 Rate Increas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or’s Incom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430200"/>
            <a:ext cx="8680680" cy="5653800"/>
            <a:chOff x="533520" y="430200"/>
            <a:chExt cx="8680680" cy="5653800"/>
          </a:xfrm>
        </p:grpSpPr>
        <p:grpSp>
          <p:nvGrpSpPr>
            <p:cNvPr id="262" name=""/>
            <p:cNvGrpSpPr/>
            <p:nvPr/>
          </p:nvGrpSpPr>
          <p:grpSpPr>
            <a:xfrm>
              <a:off x="5115240" y="4847040"/>
              <a:ext cx="829800" cy="410760"/>
              <a:chOff x="5115240" y="4847040"/>
              <a:chExt cx="829800" cy="4107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15240" y="484704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9880" y="5144760"/>
                <a:ext cx="164160" cy="11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430200"/>
              <a:ext cx="8680680" cy="5653800"/>
              <a:chOff x="533520" y="430200"/>
              <a:chExt cx="8680680" cy="565380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33520" y="1812240"/>
                <a:ext cx="6786000" cy="4074480"/>
                <a:chOff x="533520" y="1812240"/>
                <a:chExt cx="6786000" cy="4074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33520" y="1812240"/>
                  <a:ext cx="0" cy="40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33520" y="5886720"/>
                  <a:ext cx="67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7412760" y="57369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7480" y="1472760"/>
                <a:ext cx="211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33520" y="650160"/>
                <a:ext cx="8083800" cy="5262480"/>
                <a:chOff x="533520" y="650160"/>
                <a:chExt cx="8083800" cy="5262480"/>
              </a:xfrm>
            </p:grpSpPr>
            <p:sp>
              <p:nvSpPr>
                <p:cNvPr id="272" name=""/>
                <p:cNvSpPr/>
                <p:nvPr/>
              </p:nvSpPr>
              <p:spPr>
                <a:xfrm rot="10678200">
                  <a:off x="2633760" y="753480"/>
                  <a:ext cx="591588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33520" y="2360880"/>
                  <a:ext cx="5888880" cy="355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32600" y="406548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1840" y="430200"/>
                <a:ext cx="7722360" cy="5482440"/>
                <a:chOff x="1491840" y="430200"/>
                <a:chExt cx="7722360" cy="5482440"/>
              </a:xfrm>
            </p:grpSpPr>
            <p:sp>
              <p:nvSpPr>
                <p:cNvPr id="276" name=""/>
                <p:cNvSpPr/>
                <p:nvPr/>
              </p:nvSpPr>
              <p:spPr>
                <a:xfrm flipH="1" flipV="1">
                  <a:off x="1491840" y="1295280"/>
                  <a:ext cx="4437000" cy="46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678200">
                  <a:off x="3231720" y="533520"/>
                  <a:ext cx="5914800" cy="390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22960" y="3426120"/>
                  <a:ext cx="164160" cy="1134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V="1">
                <a:off x="3523320" y="3603960"/>
                <a:ext cx="0" cy="354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ither Borrower Nor Lender B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Borrowing/Lending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440" y="284760"/>
            <a:ext cx="8046000" cy="5864400"/>
            <a:chOff x="685440" y="284760"/>
            <a:chExt cx="8046000" cy="5864400"/>
          </a:xfrm>
        </p:grpSpPr>
        <p:grpSp>
          <p:nvGrpSpPr>
            <p:cNvPr id="282" name=""/>
            <p:cNvGrpSpPr/>
            <p:nvPr/>
          </p:nvGrpSpPr>
          <p:grpSpPr>
            <a:xfrm>
              <a:off x="714600" y="1724400"/>
              <a:ext cx="7193160" cy="4235760"/>
              <a:chOff x="714600" y="1724400"/>
              <a:chExt cx="7193160" cy="4235760"/>
            </a:xfrm>
          </p:grpSpPr>
          <p:sp>
            <p:nvSpPr>
              <p:cNvPr id="283" name=""/>
              <p:cNvSpPr/>
              <p:nvPr/>
            </p:nvSpPr>
            <p:spPr>
              <a:xfrm>
                <a:off x="714600" y="1724400"/>
                <a:ext cx="0" cy="423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4600" y="5960160"/>
                <a:ext cx="719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8004600" y="580212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8560" y="13716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678200">
              <a:off x="2390760" y="394560"/>
              <a:ext cx="6270480" cy="40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306240" y="3586680"/>
              <a:ext cx="829800" cy="427320"/>
              <a:chOff x="3306240" y="3586680"/>
              <a:chExt cx="829800" cy="42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306240" y="3586680"/>
                <a:ext cx="82980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3760" y="3896280"/>
                <a:ext cx="173880" cy="117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473280" y="3956040"/>
              <a:ext cx="1045080" cy="20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85440" y="3586320"/>
              <a:ext cx="278748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% propensity to con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-154800"/>
            <a:ext cx="6850800" cy="6519960"/>
            <a:chOff x="457200" y="-154800"/>
            <a:chExt cx="6850800" cy="6519960"/>
          </a:xfrm>
        </p:grpSpPr>
        <p:grpSp>
          <p:nvGrpSpPr>
            <p:cNvPr id="295" name=""/>
            <p:cNvGrpSpPr/>
            <p:nvPr/>
          </p:nvGrpSpPr>
          <p:grpSpPr>
            <a:xfrm>
              <a:off x="468360" y="244080"/>
              <a:ext cx="6433920" cy="6121080"/>
              <a:chOff x="468360" y="244080"/>
              <a:chExt cx="6433920" cy="61210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91760" y="1752480"/>
                <a:ext cx="5743080" cy="4576320"/>
                <a:chOff x="491760" y="1752480"/>
                <a:chExt cx="5743080" cy="4576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91760" y="1752480"/>
                  <a:ext cx="0" cy="45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91760" y="6328800"/>
                  <a:ext cx="574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6313680" y="615744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6440" y="1371600"/>
                <a:ext cx="1256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0678200">
                <a:off x="1819800" y="331200"/>
                <a:ext cx="5006160" cy="438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563920" y="3764880"/>
                <a:ext cx="494280" cy="461520"/>
                <a:chOff x="2563920" y="3764880"/>
                <a:chExt cx="494280" cy="461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563920" y="3764880"/>
                  <a:ext cx="49428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98480" y="4099320"/>
                  <a:ext cx="138960" cy="127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693880" y="4163760"/>
                <a:ext cx="834480" cy="21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68360" y="3764880"/>
                <a:ext cx="2225160" cy="39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3656160" y="4163760"/>
              <a:ext cx="834480" cy="21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457200" y="3565440"/>
              <a:ext cx="319896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0678200">
              <a:off x="2225520" y="-67320"/>
              <a:ext cx="5006160" cy="438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term Available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your midterm examination as an economi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 is time-constrained, so allocate your time wisely.  The time should be adequ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use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scan of the entir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ing the easy question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the hard ones.(The alternative risks missing easy ones because you ran out of tim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give complete answers to the entire exam in under two pages, but most will need more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Neumann-Morgenstern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gambles at expected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33520" y="3048120"/>
                <a:ext cx="72388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if prefer expected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verse to all gambles if an only if concave utility (second derivative &lt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09480" y="24382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π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04920" y="1219320"/>
            <a:ext cx="7471800" cy="5181120"/>
            <a:chOff x="304920" y="1219320"/>
            <a:chExt cx="7471800" cy="5181120"/>
          </a:xfrm>
        </p:grpSpPr>
        <p:grpSp>
          <p:nvGrpSpPr>
            <p:cNvPr id="322" name=""/>
            <p:cNvGrpSpPr/>
            <p:nvPr/>
          </p:nvGrpSpPr>
          <p:grpSpPr>
            <a:xfrm>
              <a:off x="304920" y="1219320"/>
              <a:ext cx="7471800" cy="5181120"/>
              <a:chOff x="304920" y="1219320"/>
              <a:chExt cx="7471800" cy="518112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171880" y="1397880"/>
                <a:ext cx="5351760" cy="4466880"/>
                <a:chOff x="2171880" y="1397880"/>
                <a:chExt cx="5351760" cy="4466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171880" y="1397880"/>
                  <a:ext cx="0" cy="446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71880" y="5864760"/>
                  <a:ext cx="535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04920" y="1219320"/>
                <a:ext cx="7471800" cy="5181120"/>
                <a:chOff x="304920" y="1219320"/>
                <a:chExt cx="7471800" cy="5181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47840" y="56862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69400" y="1397880"/>
                  <a:ext cx="4604760" cy="3751920"/>
                </a:xfrm>
                <a:custGeom>
                  <a:avLst/>
                  <a:gdLst/>
                  <a:ahLst/>
                  <a:rect l="l" t="t" r="r" b="b"/>
                  <a:pathLst>
                    <a:path w="4440" h="3780">
                      <a:moveTo>
                        <a:pt x="0" y="3780"/>
                      </a:moveTo>
                      <a:cubicBezTo>
                        <a:pt x="110" y="2565"/>
                        <a:pt x="220" y="1350"/>
                        <a:pt x="960" y="720"/>
                      </a:cubicBezTo>
                      <a:cubicBezTo>
                        <a:pt x="1700" y="90"/>
                        <a:pt x="3070" y="45"/>
                        <a:pt x="4440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2793960" y="1397880"/>
                  <a:ext cx="3609360" cy="267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793960" y="4078080"/>
                  <a:ext cx="0" cy="178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403320" y="1397880"/>
                  <a:ext cx="0" cy="4466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67264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83080" y="5863680"/>
                  <a:ext cx="21132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914280" y="5864760"/>
                  <a:ext cx="123912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163040" y="1755360"/>
                  <a:ext cx="0" cy="410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171520" y="300600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171520" y="1797840"/>
                  <a:ext cx="19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3680" y="1576440"/>
                  <a:ext cx="153000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4920" y="2827440"/>
                  <a:ext cx="1820160" cy="53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+(1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v(x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99440" y="12193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3043080" y="3006000"/>
              <a:ext cx="0" cy="2858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18520" y="5864760"/>
              <a:ext cx="3459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6201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ty Equivalent is the amount of money valued the same as the gamble is val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expected value of gamble minus the certainty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emium is the dollar cost of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Risk Pre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mall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09480" y="3429000"/>
                <a:ext cx="38102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½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520" y="2209680"/>
                <a:ext cx="594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990720" y="2666880"/>
                <a:ext cx="6735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½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5800" y="4495680"/>
                <a:ext cx="14461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438280" y="4572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e Arrow-Pratt measure of constant absolute risk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Risk A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risk aversion generally thought to be decreasing i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an increase in wealth reduces the risk premium for any gam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s-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bsolute risk ave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 normally distributed g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 certainty equival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preferences give linear payoff to mean and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finance, agenc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477120" y="1295280"/>
                <a:ext cx="2057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971800" y="3352680"/>
                <a:ext cx="3233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½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face random price, densit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btaining price qu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ervation price, buy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09480" y="4191120"/>
                <a:ext cx="72392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Cost of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62120" y="1220760"/>
                <a:ext cx="411480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209680" y="2209680"/>
                <a:ext cx="632484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)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38080" y="3962520"/>
                <a:ext cx="769644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)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if and only if price offered is less than the expected cost of future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eworth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, two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otal endowmen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765720" y="2819520"/>
            <a:ext cx="5075640" cy="3886200"/>
            <a:chOff x="765720" y="2819520"/>
            <a:chExt cx="5075640" cy="3886200"/>
          </a:xfrm>
        </p:grpSpPr>
        <p:sp>
          <p:nvSpPr>
            <p:cNvPr id="379" name=""/>
            <p:cNvSpPr/>
            <p:nvPr/>
          </p:nvSpPr>
          <p:spPr>
            <a:xfrm>
              <a:off x="1347840" y="2819520"/>
              <a:ext cx="4268160" cy="325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0440" y="60789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98800" y="281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05360" y="4699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46040" y="2819520"/>
              <a:ext cx="0" cy="32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47840" y="4734720"/>
              <a:ext cx="4268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9520" y="4745160"/>
              <a:ext cx="334440" cy="1333800"/>
            </a:xfrm>
            <a:custGeom>
              <a:avLst/>
              <a:gdLst>
                <a:gd name="textAreaLeft" fmla="*/ 213840 w 334440"/>
                <a:gd name="textAreaRight" fmla="*/ 334800 w 33444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29520" y="2819520"/>
              <a:ext cx="330840" cy="1880280"/>
            </a:xfrm>
            <a:custGeom>
              <a:avLst/>
              <a:gdLst>
                <a:gd name="textAreaLeft" fmla="*/ 211320 w 330840"/>
                <a:gd name="textAreaRight" fmla="*/ 331200 w 330840"/>
                <a:gd name="textAreaTop" fmla="*/ 48960 h 1880280"/>
                <a:gd name="textAreaBottom" fmla="*/ 1831320 h 188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5720" y="532620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720" y="3571560"/>
              <a:ext cx="211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2101320" y="5450760"/>
              <a:ext cx="250560" cy="175752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45720 h 1757520"/>
                <a:gd name="textAreaBottom" fmla="*/ 1711800 h 175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4235400" y="5074200"/>
              <a:ext cx="250560" cy="2510640"/>
            </a:xfrm>
            <a:custGeom>
              <a:avLst/>
              <a:gdLst>
                <a:gd name="textAreaLeft" fmla="*/ 160200 w 250560"/>
                <a:gd name="textAreaRight" fmla="*/ 250560 w 250560"/>
                <a:gd name="textAreaTop" fmla="*/ 65160 h 2510640"/>
                <a:gd name="textAreaBottom" fmla="*/ 2445480 h 25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8484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77160" y="6455160"/>
              <a:ext cx="250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-2615040" y="-403560"/>
            <a:ext cx="11491560" cy="8463960"/>
            <a:chOff x="-2615040" y="-403560"/>
            <a:chExt cx="11491560" cy="8463960"/>
          </a:xfrm>
        </p:grpSpPr>
        <p:grpSp>
          <p:nvGrpSpPr>
            <p:cNvPr id="395" name=""/>
            <p:cNvGrpSpPr/>
            <p:nvPr/>
          </p:nvGrpSpPr>
          <p:grpSpPr>
            <a:xfrm>
              <a:off x="304560" y="1523880"/>
              <a:ext cx="7309800" cy="4900680"/>
              <a:chOff x="304560" y="1523880"/>
              <a:chExt cx="7309800" cy="4900680"/>
            </a:xfrm>
          </p:grpSpPr>
          <p:sp>
            <p:nvSpPr>
              <p:cNvPr id="396" name=""/>
              <p:cNvSpPr/>
              <p:nvPr/>
            </p:nvSpPr>
            <p:spPr>
              <a:xfrm>
                <a:off x="570240" y="1523880"/>
                <a:ext cx="6769800" cy="459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4560" y="61192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71800" y="1523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rot="10525800">
              <a:off x="2863440" y="-178200"/>
              <a:ext cx="583920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15960" y="4172760"/>
              <a:ext cx="225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2216880" y="311400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79160" y="5055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1818720" y="276048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-2615040" y="34671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1154880" y="2406960"/>
              <a:ext cx="6901920" cy="45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47400" y="47041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083200" y="5057280"/>
              <a:ext cx="66348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685040" y="5234040"/>
              <a:ext cx="106164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87240" y="5234040"/>
              <a:ext cx="146016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23400" y="3728160"/>
              <a:ext cx="127080" cy="11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-2984760" y="-875160"/>
            <a:ext cx="13877640" cy="9329400"/>
            <a:chOff x="-2984760" y="-875160"/>
            <a:chExt cx="13877640" cy="9329400"/>
          </a:xfrm>
        </p:grpSpPr>
        <p:grpSp>
          <p:nvGrpSpPr>
            <p:cNvPr id="413" name=""/>
            <p:cNvGrpSpPr/>
            <p:nvPr/>
          </p:nvGrpSpPr>
          <p:grpSpPr>
            <a:xfrm>
              <a:off x="151200" y="1219320"/>
              <a:ext cx="8207640" cy="5257440"/>
              <a:chOff x="151200" y="1219320"/>
              <a:chExt cx="8207640" cy="5257440"/>
            </a:xfrm>
          </p:grpSpPr>
          <p:sp>
            <p:nvSpPr>
              <p:cNvPr id="414" name=""/>
              <p:cNvSpPr/>
              <p:nvPr/>
            </p:nvSpPr>
            <p:spPr>
              <a:xfrm>
                <a:off x="451080" y="1219320"/>
                <a:ext cx="7619040" cy="4951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1200" y="6171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16280" y="121932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-2536200" y="-875160"/>
              <a:ext cx="12480480" cy="8758080"/>
              <a:chOff x="-2536200" y="-875160"/>
              <a:chExt cx="12480480" cy="875808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-2536200" y="-875160"/>
                <a:ext cx="12480480" cy="8758080"/>
                <a:chOff x="-2536200" y="-875160"/>
                <a:chExt cx="12480480" cy="8758080"/>
              </a:xfrm>
            </p:grpSpPr>
            <p:sp>
              <p:nvSpPr>
                <p:cNvPr id="419" name=""/>
                <p:cNvSpPr/>
                <p:nvPr/>
              </p:nvSpPr>
              <p:spPr>
                <a:xfrm rot="10525800">
                  <a:off x="3186000" y="-621000"/>
                  <a:ext cx="657144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-2536200" y="2932560"/>
                  <a:ext cx="77673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4036320" y="359496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-824760" y="-473400"/>
              <a:ext cx="10342080" cy="7296840"/>
              <a:chOff x="-824760" y="-473400"/>
              <a:chExt cx="10342080" cy="72968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-824760" y="-473400"/>
                <a:ext cx="10342080" cy="7296840"/>
                <a:chOff x="-824760" y="-473400"/>
                <a:chExt cx="10342080" cy="7296840"/>
              </a:xfrm>
            </p:grpSpPr>
            <p:sp>
              <p:nvSpPr>
                <p:cNvPr id="424" name=""/>
                <p:cNvSpPr/>
                <p:nvPr/>
              </p:nvSpPr>
              <p:spPr>
                <a:xfrm rot="10525800">
                  <a:off x="3916080" y="-262800"/>
                  <a:ext cx="544536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-824760" y="2698200"/>
                  <a:ext cx="6436080" cy="412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621320" y="3249720"/>
                <a:ext cx="118440" cy="101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-150120" y="-473400"/>
              <a:ext cx="11043000" cy="6854400"/>
              <a:chOff x="-150120" y="-473400"/>
              <a:chExt cx="11043000" cy="68544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-150120" y="-473400"/>
                <a:ext cx="11043000" cy="6854400"/>
                <a:chOff x="-150120" y="-473400"/>
                <a:chExt cx="11043000" cy="6854400"/>
              </a:xfrm>
            </p:grpSpPr>
            <p:sp>
              <p:nvSpPr>
                <p:cNvPr id="429" name=""/>
                <p:cNvSpPr/>
                <p:nvPr/>
              </p:nvSpPr>
              <p:spPr>
                <a:xfrm rot="10525800">
                  <a:off x="4928040" y="-247320"/>
                  <a:ext cx="582048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-150120" y="2530800"/>
                  <a:ext cx="6879600" cy="38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5671080" y="3045600"/>
                <a:ext cx="126720" cy="94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-2984760" y="-303840"/>
              <a:ext cx="12481200" cy="8758080"/>
              <a:chOff x="-2984760" y="-303840"/>
              <a:chExt cx="12481200" cy="87580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-2984760" y="-303840"/>
                <a:ext cx="12481200" cy="8758080"/>
                <a:chOff x="-2984760" y="-303840"/>
                <a:chExt cx="12481200" cy="8758080"/>
              </a:xfrm>
            </p:grpSpPr>
            <p:sp>
              <p:nvSpPr>
                <p:cNvPr id="434" name=""/>
                <p:cNvSpPr/>
                <p:nvPr/>
              </p:nvSpPr>
              <p:spPr>
                <a:xfrm rot="10525800">
                  <a:off x="2737440" y="-49680"/>
                  <a:ext cx="657216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-2984760" y="3503880"/>
                  <a:ext cx="7768080" cy="495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88480" y="4166280"/>
                <a:ext cx="142920" cy="12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-2100960" y="2121840"/>
              <a:ext cx="8196480" cy="5370120"/>
              <a:chOff x="-2100960" y="2121840"/>
              <a:chExt cx="8196480" cy="53701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-2100960" y="2121840"/>
                <a:ext cx="8196480" cy="5370120"/>
                <a:chOff x="-2100960" y="2121840"/>
                <a:chExt cx="8196480" cy="5370120"/>
              </a:xfrm>
            </p:grpSpPr>
            <p:sp>
              <p:nvSpPr>
                <p:cNvPr id="439" name=""/>
                <p:cNvSpPr/>
                <p:nvPr/>
              </p:nvSpPr>
              <p:spPr>
                <a:xfrm rot="10525800">
                  <a:off x="1663920" y="2288880"/>
                  <a:ext cx="431784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-2100960" y="4466880"/>
                  <a:ext cx="5104080" cy="3025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2217960" y="4871520"/>
                <a:ext cx="93960" cy="74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123720" y="-171720"/>
              <a:ext cx="6775560" cy="4860360"/>
              <a:chOff x="3123720" y="-171720"/>
              <a:chExt cx="6775560" cy="48603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3123720" y="-171720"/>
                <a:ext cx="6775560" cy="4860360"/>
                <a:chOff x="3123720" y="-171720"/>
                <a:chExt cx="6775560" cy="4860360"/>
              </a:xfrm>
            </p:grpSpPr>
            <p:sp>
              <p:nvSpPr>
                <p:cNvPr id="444" name=""/>
                <p:cNvSpPr/>
                <p:nvPr/>
              </p:nvSpPr>
              <p:spPr>
                <a:xfrm rot="10525800">
                  <a:off x="6228360" y="-33840"/>
                  <a:ext cx="356688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123720" y="1938600"/>
                  <a:ext cx="4216320" cy="2750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691320" y="2306520"/>
                <a:ext cx="7740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51080" y="1219320"/>
              <a:ext cx="7619040" cy="4951080"/>
            </a:xfrm>
            <a:custGeom>
              <a:avLst/>
              <a:gdLst/>
              <a:ahLst/>
              <a:rect l="l" t="t" r="r" b="b"/>
              <a:pathLst>
                <a:path w="6120" h="4680">
                  <a:moveTo>
                    <a:pt x="0" y="4680"/>
                  </a:moveTo>
                  <a:cubicBezTo>
                    <a:pt x="570" y="4200"/>
                    <a:pt x="1140" y="3720"/>
                    <a:pt x="1560" y="3420"/>
                  </a:cubicBezTo>
                  <a:cubicBezTo>
                    <a:pt x="1980" y="3120"/>
                    <a:pt x="2300" y="3060"/>
                    <a:pt x="2520" y="2880"/>
                  </a:cubicBezTo>
                  <a:cubicBezTo>
                    <a:pt x="2740" y="2700"/>
                    <a:pt x="2740" y="2490"/>
                    <a:pt x="2880" y="2340"/>
                  </a:cubicBezTo>
                  <a:cubicBezTo>
                    <a:pt x="3020" y="2190"/>
                    <a:pt x="3140" y="2070"/>
                    <a:pt x="3360" y="1980"/>
                  </a:cubicBezTo>
                  <a:cubicBezTo>
                    <a:pt x="3580" y="1890"/>
                    <a:pt x="3920" y="1950"/>
                    <a:pt x="4200" y="1800"/>
                  </a:cubicBezTo>
                  <a:cubicBezTo>
                    <a:pt x="4480" y="1650"/>
                    <a:pt x="4720" y="1380"/>
                    <a:pt x="5040" y="1080"/>
                  </a:cubicBezTo>
                  <a:cubicBezTo>
                    <a:pt x="5360" y="780"/>
                    <a:pt x="5940" y="180"/>
                    <a:pt x="612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quants are contour sets of the utilit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preferences means if consumer indifferent between two points, prefers points on the line segment connect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 Rational, Efficient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-2142720" y="-1630800"/>
            <a:ext cx="13606920" cy="10171800"/>
            <a:chOff x="-2142720" y="-1630800"/>
            <a:chExt cx="13606920" cy="10171800"/>
          </a:xfrm>
        </p:grpSpPr>
        <p:grpSp>
          <p:nvGrpSpPr>
            <p:cNvPr id="450" name=""/>
            <p:cNvGrpSpPr/>
            <p:nvPr/>
          </p:nvGrpSpPr>
          <p:grpSpPr>
            <a:xfrm>
              <a:off x="-2142720" y="-1630800"/>
              <a:ext cx="13606920" cy="10171800"/>
              <a:chOff x="-2142720" y="-1630800"/>
              <a:chExt cx="13606920" cy="101718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-2142720" y="-1630800"/>
                <a:ext cx="13606920" cy="9883800"/>
                <a:chOff x="-2142720" y="-1630800"/>
                <a:chExt cx="13606920" cy="988380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-2142720" y="-1630800"/>
                  <a:ext cx="13606920" cy="9883800"/>
                  <a:chOff x="-2142720" y="-1630800"/>
                  <a:chExt cx="13606920" cy="98838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0525800">
                    <a:off x="4089960" y="-1353960"/>
                    <a:ext cx="71625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-2142720" y="2657520"/>
                    <a:ext cx="8465760" cy="55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5" name=""/>
                <p:cNvSpPr/>
                <p:nvPr/>
              </p:nvSpPr>
              <p:spPr>
                <a:xfrm>
                  <a:off x="5020560" y="3405960"/>
                  <a:ext cx="155880" cy="137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1828800" y="-649800"/>
                <a:ext cx="11235960" cy="9190800"/>
                <a:chOff x="-1828800" y="-649800"/>
                <a:chExt cx="11235960" cy="919080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380160" y="1249200"/>
                  <a:ext cx="7833960" cy="5013360"/>
                  <a:chOff x="380160" y="1249200"/>
                  <a:chExt cx="7833960" cy="501336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665640" y="1249200"/>
                    <a:ext cx="7265160" cy="4707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80160" y="595728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71560" y="124920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-1828800" y="-649800"/>
                  <a:ext cx="11235960" cy="9190800"/>
                  <a:chOff x="-1828800" y="-649800"/>
                  <a:chExt cx="11235960" cy="919080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-1828800" y="-649800"/>
                    <a:ext cx="11235960" cy="9190800"/>
                    <a:chOff x="-1828800" y="-649800"/>
                    <a:chExt cx="11235960" cy="919080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0525800">
                      <a:off x="3299760" y="-422640"/>
                      <a:ext cx="590832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-1828800" y="3311280"/>
                      <a:ext cx="6983280" cy="522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4080240" y="4010760"/>
                    <a:ext cx="1285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665640" y="1219320"/>
                  <a:ext cx="7265520" cy="4707360"/>
                </a:xfrm>
                <a:custGeom>
                  <a:avLst/>
                  <a:gdLst/>
                  <a:ahLst/>
                  <a:rect l="l" t="t" r="r" b="b"/>
                  <a:pathLst>
                    <a:path w="6120" h="4680">
                      <a:moveTo>
                        <a:pt x="0" y="4680"/>
                      </a:moveTo>
                      <a:cubicBezTo>
                        <a:pt x="1170" y="3990"/>
                        <a:pt x="2340" y="3300"/>
                        <a:pt x="3360" y="2520"/>
                      </a:cubicBezTo>
                      <a:cubicBezTo>
                        <a:pt x="4380" y="1740"/>
                        <a:pt x="5250" y="870"/>
                        <a:pt x="6120" y="0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229920" y="2667600"/>
                  <a:ext cx="221760" cy="18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8" name=""/>
            <p:cNvSpPr/>
            <p:nvPr/>
          </p:nvSpPr>
          <p:spPr>
            <a:xfrm>
              <a:off x="4141800" y="3421080"/>
              <a:ext cx="1025640" cy="652680"/>
            </a:xfrm>
            <a:custGeom>
              <a:avLst/>
              <a:gdLst/>
              <a:ahLst/>
              <a:rect l="l" t="t" r="r" b="b"/>
              <a:pathLst>
                <a:path w="960" h="720">
                  <a:moveTo>
                    <a:pt x="0" y="720"/>
                  </a:moveTo>
                  <a:cubicBezTo>
                    <a:pt x="80" y="660"/>
                    <a:pt x="160" y="600"/>
                    <a:pt x="240" y="540"/>
                  </a:cubicBezTo>
                  <a:cubicBezTo>
                    <a:pt x="320" y="480"/>
                    <a:pt x="400" y="420"/>
                    <a:pt x="480" y="360"/>
                  </a:cubicBezTo>
                  <a:cubicBezTo>
                    <a:pt x="560" y="300"/>
                    <a:pt x="640" y="240"/>
                    <a:pt x="720" y="180"/>
                  </a:cubicBezTo>
                  <a:cubicBezTo>
                    <a:pt x="800" y="120"/>
                    <a:pt x="880" y="60"/>
                    <a:pt x="9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System 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-2075040" y="-1650240"/>
            <a:ext cx="12840480" cy="10322640"/>
            <a:chOff x="-2075040" y="-1650240"/>
            <a:chExt cx="12840480" cy="10322640"/>
          </a:xfrm>
        </p:grpSpPr>
        <p:sp>
          <p:nvSpPr>
            <p:cNvPr id="471" name=""/>
            <p:cNvSpPr/>
            <p:nvPr/>
          </p:nvSpPr>
          <p:spPr>
            <a:xfrm>
              <a:off x="2991960" y="3410280"/>
              <a:ext cx="2015280" cy="1658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-2075040" y="-1650240"/>
              <a:ext cx="12840480" cy="10322640"/>
              <a:chOff x="-2075040" y="-1650240"/>
              <a:chExt cx="12840480" cy="1032264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-2075040" y="-1650240"/>
                <a:ext cx="12840480" cy="10322640"/>
                <a:chOff x="-2075040" y="-1650240"/>
                <a:chExt cx="12840480" cy="1032264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-2075040" y="-1650240"/>
                  <a:ext cx="12840480" cy="10322640"/>
                  <a:chOff x="-2075040" y="-1650240"/>
                  <a:chExt cx="12840480" cy="1032264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-2075040" y="-1650240"/>
                    <a:ext cx="12840480" cy="10322640"/>
                    <a:chOff x="-2075040" y="-1650240"/>
                    <a:chExt cx="12840480" cy="10322640"/>
                  </a:xfrm>
                </p:grpSpPr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-2075040" y="-1650240"/>
                      <a:ext cx="12840480" cy="10029960"/>
                      <a:chOff x="-2075040" y="-1650240"/>
                      <a:chExt cx="12840480" cy="1002996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-2075040" y="-1650240"/>
                        <a:ext cx="12840480" cy="10029960"/>
                        <a:chOff x="-2075040" y="-1650240"/>
                        <a:chExt cx="12840480" cy="1002996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0525800">
                          <a:off x="3794040" y="-1389960"/>
                          <a:ext cx="675504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-2075040" y="2683440"/>
                          <a:ext cx="7984080" cy="569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400000"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680720" y="3445200"/>
                        <a:ext cx="146880" cy="139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-1779120" y="-656280"/>
                      <a:ext cx="10605600" cy="9328680"/>
                      <a:chOff x="-1779120" y="-656280"/>
                      <a:chExt cx="10605600" cy="9328680"/>
                    </a:xfrm>
                  </p:grpSpPr>
                  <p:grpSp>
                    <p:nvGrpSpPr>
                      <p:cNvPr id="482" name=""/>
                      <p:cNvGrpSpPr/>
                      <p:nvPr/>
                    </p:nvGrpSpPr>
                    <p:grpSpPr>
                      <a:xfrm>
                        <a:off x="304920" y="1249920"/>
                        <a:ext cx="7390800" cy="5074200"/>
                        <a:chOff x="304920" y="1249920"/>
                        <a:chExt cx="7390800" cy="5074200"/>
                      </a:xfrm>
                    </p:grpSpPr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>
                          <a:off x="573480" y="1249920"/>
                          <a:ext cx="6852240" cy="4791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>
                          <a:off x="304920" y="604188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>
                          <a:off x="7560360" y="1249920"/>
                          <a:ext cx="135360" cy="2822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" name=""/>
                      <p:cNvGrpSpPr/>
                      <p:nvPr/>
                    </p:nvGrpSpPr>
                    <p:grpSpPr>
                      <a:xfrm>
                        <a:off x="-1779120" y="-656280"/>
                        <a:ext cx="10605600" cy="9328680"/>
                        <a:chOff x="-1779120" y="-656280"/>
                        <a:chExt cx="10605600" cy="9328680"/>
                      </a:xfrm>
                    </p:grpSpPr>
                    <p:grpSp>
                      <p:nvGrpSpPr>
                        <p:cNvPr id="487" name=""/>
                        <p:cNvGrpSpPr/>
                        <p:nvPr/>
                      </p:nvGrpSpPr>
                      <p:grpSpPr>
                        <a:xfrm>
                          <a:off x="-1779120" y="-656280"/>
                          <a:ext cx="10605600" cy="9328680"/>
                          <a:chOff x="-1779120" y="-656280"/>
                          <a:chExt cx="10605600" cy="9328680"/>
                        </a:xfrm>
                      </p:grpSpPr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 rot="10525800">
                            <a:off x="3050280" y="-442440"/>
                            <a:ext cx="557280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>
                            <a:off x="-1779120" y="3349080"/>
                            <a:ext cx="6586560" cy="532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794400" y="4061160"/>
                          <a:ext cx="121320" cy="130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573480" y="1219320"/>
                        <a:ext cx="6852600" cy="47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0" h="4680">
                            <a:moveTo>
                              <a:pt x="0" y="4680"/>
                            </a:moveTo>
                            <a:cubicBezTo>
                              <a:pt x="1170" y="3990"/>
                              <a:pt x="2340" y="3300"/>
                              <a:pt x="3360" y="2520"/>
                            </a:cubicBezTo>
                            <a:cubicBezTo>
                              <a:pt x="4380" y="1740"/>
                              <a:pt x="5250" y="870"/>
                              <a:pt x="6120" y="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991960" y="2693520"/>
                        <a:ext cx="209160" cy="18432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" name=""/>
                  <p:cNvSpPr/>
                  <p:nvPr/>
                </p:nvSpPr>
                <p:spPr>
                  <a:xfrm>
                    <a:off x="3852000" y="3460680"/>
                    <a:ext cx="96732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0" h="720">
                        <a:moveTo>
                          <a:pt x="0" y="720"/>
                        </a:moveTo>
                        <a:cubicBezTo>
                          <a:pt x="80" y="660"/>
                          <a:pt x="160" y="600"/>
                          <a:pt x="240" y="540"/>
                        </a:cubicBezTo>
                        <a:cubicBezTo>
                          <a:pt x="320" y="480"/>
                          <a:pt x="400" y="420"/>
                          <a:pt x="480" y="360"/>
                        </a:cubicBezTo>
                        <a:cubicBezTo>
                          <a:pt x="560" y="300"/>
                          <a:pt x="640" y="240"/>
                          <a:pt x="720" y="180"/>
                        </a:cubicBezTo>
                        <a:cubicBezTo>
                          <a:pt x="800" y="120"/>
                          <a:pt x="880" y="60"/>
                          <a:pt x="960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-1710360" y="-627120"/>
                  <a:ext cx="11232000" cy="8448840"/>
                  <a:chOff x="-1710360" y="-627120"/>
                  <a:chExt cx="11232000" cy="844884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-1710360" y="-627120"/>
                    <a:ext cx="11232000" cy="8448840"/>
                    <a:chOff x="-1710360" y="-627120"/>
                    <a:chExt cx="11232000" cy="8448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0525800">
                      <a:off x="3429360" y="-398880"/>
                      <a:ext cx="591048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-1710360" y="3031200"/>
                      <a:ext cx="6986160" cy="47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8" name=""/>
                  <p:cNvSpPr/>
                  <p:nvPr/>
                </p:nvSpPr>
                <p:spPr>
                  <a:xfrm>
                    <a:off x="2185560" y="2109960"/>
                    <a:ext cx="4030920" cy="3132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254840" y="3709080"/>
                    <a:ext cx="160920" cy="14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"/>
              <p:cNvSpPr/>
              <p:nvPr/>
            </p:nvSpPr>
            <p:spPr>
              <a:xfrm>
                <a:off x="3798000" y="2662920"/>
                <a:ext cx="2418480" cy="20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, convex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lfare theorem: any price system equilibrium is pareto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welfare theorem: any efficient point is a price system equilibrium for some endow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exists a price system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1447920"/>
            <a:ext cx="6629400" cy="4572000"/>
            <a:chOff x="609480" y="1447920"/>
            <a:chExt cx="6629400" cy="4572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6629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127960" y="2548080"/>
              <a:ext cx="3646800" cy="2515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43680" y="3805560"/>
              <a:ext cx="455760" cy="31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ood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57600" y="1371600"/>
                <a:ext cx="3257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7400" y="2438280"/>
                <a:ext cx="228600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4038480"/>
                <a:ext cx="64771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1676520"/>
                <a:ext cx="5943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5800" y="2895480"/>
                <a:ext cx="5410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914400" y="5105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of the budget line = slope of the isoq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Ill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676520"/>
            <a:ext cx="6854760" cy="4495320"/>
            <a:chOff x="533520" y="1676520"/>
            <a:chExt cx="6854760" cy="4495320"/>
          </a:xfrm>
        </p:grpSpPr>
        <p:grpSp>
          <p:nvGrpSpPr>
            <p:cNvPr id="91" name=""/>
            <p:cNvGrpSpPr/>
            <p:nvPr/>
          </p:nvGrpSpPr>
          <p:grpSpPr>
            <a:xfrm>
              <a:off x="534960" y="1676520"/>
              <a:ext cx="6853320" cy="4139280"/>
              <a:chOff x="534960" y="1676520"/>
              <a:chExt cx="6853320" cy="41392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534960" y="1676520"/>
                <a:ext cx="6853320" cy="4139280"/>
                <a:chOff x="534960" y="1676520"/>
                <a:chExt cx="6853320" cy="413928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107360" y="1676520"/>
                  <a:ext cx="5880600" cy="3996000"/>
                  <a:chOff x="1107360" y="1676520"/>
                  <a:chExt cx="5880600" cy="39960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107360" y="1676520"/>
                    <a:ext cx="0" cy="399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07360" y="5672520"/>
                    <a:ext cx="5880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131240" y="553932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34960" y="1809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07360" y="1809360"/>
                <a:ext cx="5880240" cy="3862800"/>
                <a:chOff x="1107360" y="1809360"/>
                <a:chExt cx="5880240" cy="3862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07360" y="3141360"/>
                  <a:ext cx="4446360" cy="253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393920" y="22089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680840" y="1809360"/>
                  <a:ext cx="5163480" cy="335232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72680" y="4340520"/>
                  <a:ext cx="286560" cy="1328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97960" y="1942560"/>
                  <a:ext cx="4589640" cy="2930760"/>
                </a:xfrm>
                <a:custGeom>
                  <a:avLst/>
                  <a:gdLst/>
                  <a:ahLst/>
                  <a:rect l="l" t="t" r="r" b="b"/>
                  <a:pathLst>
                    <a:path w="4320" h="4530">
                      <a:moveTo>
                        <a:pt x="0" y="0"/>
                      </a:moveTo>
                      <a:cubicBezTo>
                        <a:pt x="60" y="1515"/>
                        <a:pt x="120" y="3030"/>
                        <a:pt x="840" y="3780"/>
                      </a:cubicBezTo>
                      <a:cubicBezTo>
                        <a:pt x="1560" y="4530"/>
                        <a:pt x="2940" y="4515"/>
                        <a:pt x="4320" y="45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410440" y="5672520"/>
                  <a:ext cx="55548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33520" y="2874960"/>
                  <a:ext cx="53172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rder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ture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5800" y="2590920"/>
                <a:ext cx="7543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2-02T20:54:09Z</dcterms:modified>
  <cp:revision>14</cp:revision>
  <dc:subject/>
  <dc:title>Supply &amp; Demand</dc:title>
</cp:coreProperties>
</file>