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F56AB-F829-4D12-85F3-29BA7E0482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insight is to put the preferences on same line as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sales: service, coffee, browsing, selection, knowledgeable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o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fast ce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bit of math to illustrate where logic comes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wo instances of math in course, other is war of at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s better, plu overconfident, plus risk-lov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of this as the theory of Hong K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F93-E759-447C-898E-DB389DC7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4E9E-3282-4384-B668-4AA776C6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5226-CA1D-4DE7-A52C-F08E77BC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C876-FFD8-4F05-A47B-8BF1466B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90BB-0637-49F1-B60E-7D406AA3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618F-202E-49FC-A79E-14C84915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A1FB-6C3C-427D-AE23-98E3A1EB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B68A-00FA-4643-98F1-BCE848B1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9801-FE19-47DB-B36A-122FF22D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45B3-CD1A-4AC2-B4C1-37B08109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3D4A-B127-45E3-BB4C-A69C909F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2536-F786-44BA-8A0C-630896BE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6C3B-69CD-4BB5-B489-493638F1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8AE6-0AA8-43F4-B751-4E1C700F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70F4-6966-4EAA-B477-62047C4E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3A4F-7A87-41A1-9AD5-DB76F83D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A9DF-A7FC-47FE-9F78-8FAF1D09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B6C0-97BE-40D9-A8B3-6A44EE5C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62B-B987-4BAC-9C56-72342BF8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0C38-4FDD-47AB-8C2D-2BA4B3D0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21AF-B0A9-4E4A-88C4-6CEB40E5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AE48-BBCF-45E5-84A7-9A2597FB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50F-A445-4BDC-AC72-2AEB3B86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2B10-8B1A-4962-BC4A-022001DC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4376-F888-478F-B217-2B48DB340A1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8DF5-C1E2-4F7C-8A2C-BB63D891121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Oligopol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295280" y="1676520"/>
                <a:ext cx="41911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π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295280" y="2971800"/>
            <a:ext cx="7239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ts Depend on number of non-shop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dustry Performa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its Depend on number of non-shop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ppers convey a positive externality to the non-shop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-shoppers convey a negative externality on shop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124080" y="2362320"/>
                <a:ext cx="41911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π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62120" y="1371600"/>
            <a:ext cx="7391160" cy="5105520"/>
            <a:chOff x="762120" y="1371600"/>
            <a:chExt cx="7391160" cy="51055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762120" y="1371600"/>
              <a:ext cx="739116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778200" y="2153160"/>
              <a:ext cx="392256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</a:rPr>
                <a:t>Expected price for loyal customer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24000" y="5279400"/>
              <a:ext cx="4525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xpected price for shopp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809880" y="23623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ected price for loyal customer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51814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ected price for shopp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ternal Effect of Shopp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66680" y="1600200"/>
            <a:ext cx="7467840" cy="4648320"/>
            <a:chOff x="1066680" y="1600200"/>
            <a:chExt cx="7467840" cy="46483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1066680" y="1600200"/>
              <a:ext cx="746784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003120" y="2116440"/>
              <a:ext cx="290412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xpected price for loyal custom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03120" y="4828680"/>
              <a:ext cx="2350800" cy="64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xpected price for shopp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902840" y="2514240"/>
            <a:ext cx="2183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Expected price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loyal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4586760"/>
            <a:ext cx="2057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Expected price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hopp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dic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predictable pr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cery prices vary week to we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0% price changes com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sed form for price distrib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ily tes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gative correlation over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 prices build up consumer invent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consumer inventories induce high pr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telling Li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981080"/>
            <a:ext cx="7238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s are viewed as located on a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me line represents preferences of consu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57200" y="4724280"/>
            <a:ext cx="8228880" cy="1026720"/>
            <a:chOff x="457200" y="4724280"/>
            <a:chExt cx="8228880" cy="1026720"/>
          </a:xfrm>
        </p:grpSpPr>
        <p:grpSp>
          <p:nvGrpSpPr>
            <p:cNvPr id="159" name=""/>
            <p:cNvGrpSpPr/>
            <p:nvPr/>
          </p:nvGrpSpPr>
          <p:grpSpPr>
            <a:xfrm>
              <a:off x="457200" y="5388120"/>
              <a:ext cx="8228880" cy="362880"/>
              <a:chOff x="457200" y="5388120"/>
              <a:chExt cx="8228880" cy="362880"/>
            </a:xfrm>
          </p:grpSpPr>
          <p:sp>
            <p:nvSpPr>
              <p:cNvPr id="160" name=""/>
              <p:cNvSpPr/>
              <p:nvPr/>
            </p:nvSpPr>
            <p:spPr>
              <a:xfrm>
                <a:off x="457200" y="5388120"/>
                <a:ext cx="8149320" cy="0"/>
              </a:xfrm>
              <a:prstGeom prst="line">
                <a:avLst/>
              </a:prstGeom>
              <a:ln w="76320">
                <a:solidFill>
                  <a:srgbClr val="ff00ff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PlaceHolder 2"/>
              <p:cNvSpPr>
                <a:spLocks noGrp="1"/>
              </p:cNvSpPr>
              <p:nvPr>
                <p:ph/>
              </p:nvPr>
            </p:nvSpPr>
            <p:spPr>
              <a:xfrm>
                <a:off x="536760" y="5428800"/>
                <a:ext cx="8149320" cy="32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rmAutofit fontScale="54000"/>
              </a:bodyPr>
              <a:p>
                <a:pPr marL="185040" indent="0" algn="ctr">
                  <a:spcBef>
                    <a:spcPts val="1749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Target Age of Audience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4724280"/>
              <a:ext cx="591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ustomer Ag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p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lity (“vertical differentiation”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s mile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ety (“horizontal differentiation”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y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rcle Mod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3429000"/>
            <a:ext cx="76964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/n locations on unit cir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port cos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r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umers minimize cost of purchase plus trans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1371600"/>
            <a:ext cx="7543440" cy="1980720"/>
            <a:chOff x="685800" y="1371600"/>
            <a:chExt cx="7543440" cy="1980720"/>
          </a:xfrm>
        </p:grpSpPr>
        <p:sp>
          <p:nvSpPr>
            <p:cNvPr id="168" name=""/>
            <p:cNvSpPr/>
            <p:nvPr/>
          </p:nvSpPr>
          <p:spPr>
            <a:xfrm>
              <a:off x="685800" y="2560320"/>
              <a:ext cx="7496280" cy="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41920" y="2757960"/>
              <a:ext cx="76104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i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31480" y="2361960"/>
              <a:ext cx="0" cy="39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98680" y="2361960"/>
              <a:ext cx="0" cy="39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24960" y="2361960"/>
              <a:ext cx="0" cy="39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98680" y="1965600"/>
              <a:ext cx="3232440" cy="0"/>
            </a:xfrm>
            <a:prstGeom prst="line">
              <a:avLst/>
            </a:prstGeom>
            <a:ln w="63360">
              <a:solidFill>
                <a:srgbClr val="00ff00"/>
              </a:solidFill>
              <a:prstDash val="sysDot"/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31480" y="1965600"/>
              <a:ext cx="3093480" cy="0"/>
            </a:xfrm>
            <a:prstGeom prst="line">
              <a:avLst/>
            </a:prstGeom>
            <a:ln w="63360">
              <a:solidFill>
                <a:srgbClr val="00ff00"/>
              </a:solidFill>
              <a:prstDash val="sysDot"/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56800" y="1371600"/>
              <a:ext cx="13312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ength 1/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74360" y="2757960"/>
              <a:ext cx="76140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i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68200" y="2757960"/>
              <a:ext cx="76104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i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83320" y="1371600"/>
              <a:ext cx="13312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ength 1/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termination of Pri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523520"/>
            <a:ext cx="8153280" cy="4727520"/>
            <a:chOff x="304920" y="1523520"/>
            <a:chExt cx="8153280" cy="4727520"/>
          </a:xfrm>
        </p:grpSpPr>
        <p:grpSp>
          <p:nvGrpSpPr>
            <p:cNvPr id="181" name=""/>
            <p:cNvGrpSpPr/>
            <p:nvPr/>
          </p:nvGrpSpPr>
          <p:grpSpPr>
            <a:xfrm>
              <a:off x="533160" y="1523520"/>
              <a:ext cx="7925040" cy="4727520"/>
              <a:chOff x="533160" y="1523520"/>
              <a:chExt cx="7925040" cy="472752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838080" y="5715000"/>
                <a:ext cx="7543800" cy="536040"/>
                <a:chOff x="838080" y="5715000"/>
                <a:chExt cx="7543800" cy="5360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838080" y="5715000"/>
                  <a:ext cx="75438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219320" y="579132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F1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162920" y="57150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F2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 flipV="1">
                <a:off x="1523880" y="3733560"/>
                <a:ext cx="0" cy="198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7391520" y="3733560"/>
                <a:ext cx="0" cy="198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38080" y="365760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467480" y="373392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533160" y="1523520"/>
                <a:ext cx="7925040" cy="2210040"/>
                <a:chOff x="533160" y="1523520"/>
                <a:chExt cx="7925040" cy="2210040"/>
              </a:xfrm>
            </p:grpSpPr>
            <p:sp>
              <p:nvSpPr>
                <p:cNvPr id="191" name=""/>
                <p:cNvSpPr/>
                <p:nvPr/>
              </p:nvSpPr>
              <p:spPr>
                <a:xfrm flipH="1" flipV="1">
                  <a:off x="533160" y="2971440"/>
                  <a:ext cx="990360" cy="76212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1523880" y="1523520"/>
                  <a:ext cx="5562720" cy="221004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flipV="1">
                  <a:off x="1828800" y="1676160"/>
                  <a:ext cx="5562720" cy="205740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7391520" y="2971440"/>
                  <a:ext cx="1066680" cy="762120"/>
                </a:xfrm>
                <a:prstGeom prst="line">
                  <a:avLst/>
                </a:prstGeom>
                <a:ln w="5076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533520" y="1981080"/>
                <a:ext cx="1981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Delivered prices of F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81080" y="2362320"/>
                <a:ext cx="914400" cy="68580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00800" y="1905120"/>
                <a:ext cx="175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Delivered price2 of F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1219320" y="2743200"/>
                <a:ext cx="380880" cy="53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086600" y="2666880"/>
                <a:ext cx="914400" cy="609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400800" y="2666880"/>
                <a:ext cx="533520" cy="533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4343400" y="2590920"/>
              <a:ext cx="0" cy="312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9720" y="5486400"/>
              <a:ext cx="39621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4920" y="5486400"/>
              <a:ext cx="39621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quilibrium Pri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pose all firms but one charg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aining firm charge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quilibrium if profit-maximizing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umer who is indifferent is distanc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x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/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2120" y="4876920"/>
                <a:ext cx="640080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urno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 firms, each maximiz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828800" y="2438280"/>
                <a:ext cx="4762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14400" y="3581280"/>
                <a:ext cx="68580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fit Maximiz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it 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ximized 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quilibriu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1447920"/>
                <a:ext cx="54864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00400" y="4952880"/>
                <a:ext cx="32306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990720" y="3352680"/>
                <a:ext cx="784836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fits and Efficien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its a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ry cos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yiel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tal cost of delivery 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icient number of firms 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o many firm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971800" y="1371600"/>
                <a:ext cx="6858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648320" y="2666880"/>
                <a:ext cx="15238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  <m:r>
                          <m:t xml:space="preserve">F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334120" y="3809880"/>
                <a:ext cx="13716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095880" y="4952880"/>
                <a:ext cx="206244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  <m:r>
                          <m:t xml:space="preserve">F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gency The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m sets commiss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alary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ent obta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effort in output units, 1/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easures the disutility of effort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risk, an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risk premiu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006560" y="2708280"/>
                <a:ext cx="472896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λ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gent Maximiz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orking agent maximize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ver effor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hich yield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ing shares increase effo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ary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set to insure the agent accepts the job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reservation utility level)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98480" y="4800600"/>
                <a:ext cx="77979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λ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½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λ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lary Determin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giv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alary must be higher to compensate for increased risk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200400" y="1523880"/>
                <a:ext cx="44845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½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λ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irm Profi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irm ea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rovides the firm with the output, minus the cost of effort, the cost of the agent, and the cost of ris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066680" y="2286000"/>
            <a:ext cx="7075440" cy="2351160"/>
            <a:chOff x="1066680" y="2286000"/>
            <a:chExt cx="7075440" cy="2351160"/>
          </a:xfrm>
        </p:grpSpPr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1066680" y="2286000"/>
                  <a:ext cx="322236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1523880" y="2971800"/>
                  <a:ext cx="661824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a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½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s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λ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1676160" y="3809880"/>
                  <a:ext cx="5006880" cy="82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a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½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λ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irm Maximiz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m chooses the agent’s shar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hare increases in the ability 1/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agent, and decreases in the riskiness or cost of ris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09680" y="2362320"/>
                <a:ext cx="248148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lection of Ag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ent paid with a combination of salary and commi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 fixed salary, more able agents obtain a higher retur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us, offering a higher commission, lower salary will attract more able ag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/M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entives aren’t just about effort, but about agent selection as w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lications of FO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rschman Herfindahl Ind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590920" y="1371600"/>
                <a:ext cx="13716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04920" y="2666880"/>
                <a:ext cx="784836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172200" y="4038480"/>
                <a:ext cx="198108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H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09480" y="5105520"/>
                <a:ext cx="533412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den>
                        </m:f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HI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urno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s a tractable intermediate case between monopoly and compet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xed costs can be used to generate the number of fi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dely used in antitrust ana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55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ce Disper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lure of law of one p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ceries, airline tickets, etc. have high var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ry attributes to informational or search differ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consumer buys one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x pric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shoppers, seek best p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uy from one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irms (loy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C =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ure strategy equilibrium ex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ther beat low price firm or charge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ixed Strategy Equilibriu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k distribu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pr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n others randomize over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profits 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its are constant to induce random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14400" y="2819520"/>
                <a:ext cx="60199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990720" y="5257800"/>
                <a:ext cx="73911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m randomizes with distribu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ver the interval [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] 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87520" y="2819520"/>
                <a:ext cx="568476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057400" y="4495680"/>
                <a:ext cx="4343400" cy="20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2-14T18:13:45Z</dcterms:modified>
  <cp:revision>19</cp:revision>
  <dc:subject/>
  <dc:title>Supply &amp; Demand</dc:title>
</cp:coreProperties>
</file>