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0CA54-D806-4842-862C-463D4C6F1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signal is something that A’s have low cost, B’s have high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not be 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A has low cost, B has high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not be directly 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: University doubles real earnings.  MBA NPV is $1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signals 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roduct line signals commitment to market, therefore support for ol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split gets share price over $1, hurts share price.  Why?  Signals that management has nothing up its sle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d in real world in costly fashion – certification, warran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on t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435-3483-4170-880E-6ECBCA2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EAC-5A22-4BF2-948E-5B2DE287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D62-0608-419A-8282-C102CFA8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313-5595-4E03-98BF-5124445E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8741-3A4B-4AED-9480-CEC25935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4F2C-F221-4F4E-8953-D36DA7D0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C2D8-36ED-493D-8E3B-4765234C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6AB9-1504-4183-861E-E4B991E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6623-C29C-49CE-81A7-8E928A04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53C6-344C-4446-9841-175ED6E3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9ABB-7EA5-4849-B0B2-6A01F43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FBE-5569-4493-BBDB-7D23ED62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1318-B7BC-499C-ACA8-58C3CCE5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F849-7CF0-408C-A280-D18ECA4B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36EB-6434-47FC-A3DC-9EAA6D20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D31-A338-4027-96E8-18A9AC6C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05D3-DACE-40B5-BB8A-BB02DBCD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CCA-2E04-41CE-AAEE-6B58383F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C55-1E25-4BBA-AD9C-9E29D8E6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D2B-4683-46F6-B817-2A31E57B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6F9-3C45-484C-9922-F2FC773F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AD0-9507-41E2-AB29-9B708A2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45F-D83A-45B4-89C5-86651CA6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571-61D3-46F1-8357-80EDF69B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3CB-BECF-471F-AED4-5495CF1776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0E83-9787-4C3A-80FB-3327245560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orm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vel Needed to Sign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Q such th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 &gt;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level Q will serve to signal that person is typ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A’s rationally choose to signal, type B’s choose not to sig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ly information trans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nks, insurance companies build enormous buil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arran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igner labe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ory off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ory Off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enough so that sale is profitabl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f there is repeat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: low price may signal low quality, or create expectations of low pr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tion: visibly spend money (“burning mone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me Products with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ory Off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tic sea s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ery clea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forest preser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ese repell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k plank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her Signaling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y deter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in store parado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price signals low cost, bad mar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prices deter en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of complementary g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not detect source of fail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s: bundling,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on/management signaling patience in a str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agement signals low pro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gway and Solotre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1447920"/>
            <a:ext cx="8229600" cy="4174920"/>
            <a:chOff x="533520" y="1447920"/>
            <a:chExt cx="8229600" cy="4174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rcRect l="0" t="0" r="0" b="1408"/>
            <a:stretch/>
          </p:blipFill>
          <p:spPr>
            <a:xfrm>
              <a:off x="533520" y="1447920"/>
              <a:ext cx="1962720" cy="41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rcRect l="0" t="0" r="0" b="9235"/>
            <a:stretch/>
          </p:blipFill>
          <p:spPr>
            <a:xfrm>
              <a:off x="2511720" y="1447920"/>
              <a:ext cx="2676600" cy="41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202720" y="1447920"/>
              <a:ext cx="3560400" cy="41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obert Thornton, a professor of economics at Lehigh University in Bethlehem, PA, has compiled a list, the Lexicon of Inconspicuously Ambiguous Recommendations, of useful phrases for letters of recommendation on marginally qualified or unqualified candidates. Thornton's AEA listing gives his specialty as Public Employee Bargaining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me examples from LIAR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 a lazy candidate: In my opinion, you will be very fortunate to get this person to work for you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person who is totally inept: I most enthusiastically recommend this candidate with no qualifications whatsoev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n ex‑employee who had problems getting along with fellow workers: I am pleased to say that this candidate is a former colleague of min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candidate who is so unproductive that the job would be better left unfilled: I can assure you that no person would be better for the job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job applicant who is not worth further consideration: I would urge you to waste no time in making this candidate an offer of employm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describe a person with lackluster credentials: All in all, I cannot say enough good things about this candidate or recommend him too highly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ket for Lem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y q of cars uniform on [0,1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ler values car at 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 known only to se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yer at 3q/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price p, sellers with cars q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willing to sell, with average quality ½ 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yers value such cars at ¾ p &lt; 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asymmetry prevents market from op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erson-Satterthwa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erson Caltech undergrad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terthwaite Caltech P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er value v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 [0,1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ler cost c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 [0,1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to arrange trades efficient if trade occurs when v &gt;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fficient Tra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efficient trade, GFT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charges buyer p(v,c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er obtain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,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E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049480" y="2362320"/>
                <a:ext cx="3978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uyer Prof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 buyer profits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gains from trade go to the buy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3520" y="1523880"/>
                <a:ext cx="7772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85800" y="3581280"/>
                <a:ext cx="77724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yerson-Satterthwa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ler also gets all GFT (similar argum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t trade im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ers tend to understate actual value to improve terms of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lers tend to overstate 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 is failure to trade effic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 is small in large mark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entially large in small mar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y to have inefficient trade is de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3681360" cy="6450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Signal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ypes A,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ivity of A higher than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known, types get wages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&gt;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hard to obser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led with education: obtaining education level q costs type i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15T19:33:59Z</dcterms:modified>
  <cp:revision>15</cp:revision>
  <dc:subject/>
  <dc:title>Supply &amp; Demand</dc:title>
</cp:coreProperties>
</file>