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4E8-4E5C-4988-9ABF-B6464877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895-E09C-4B30-AB41-EDD2781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7D4-2608-48C2-85A4-3BF2DCDC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F0B-9221-4884-82A3-C18B53E6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4E1-46FA-4EBA-BA49-0235558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873-707F-4769-8052-8D37FFE0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F9E-6E56-409A-9519-155743FD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C9B-B030-477E-83C5-36E2435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A30-B18A-4EF5-B894-CAF3985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5DF-50D3-4548-9302-D0600766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C59-D2DB-45BC-9C35-197930B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076-8374-4583-BF07-8D158FF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6BE-3B18-4AE3-9FE6-84B3E23F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 be the total number of hours p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George spend G hours making pizzas, and Ann spend A hours making pizzas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4343400"/>
                <a:ext cx="2514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</m:e>
                    </m:rad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00240" y="5410080"/>
                <a:ext cx="4303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,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eliminat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over G (G=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 = 59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that no one puts in negativ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2286000"/>
                <a:ext cx="3657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G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’s MC of pizzas is 2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cost of P pizzas is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’s MC is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ng these says George produces 1 pizza, Ann produces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aridian Trad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specialize in compara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springs from abundance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skills, land, capital equipment, sunshine, warm weather,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Price Eq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 goods “embody factors of production” (inpu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e has metals, plastics, labor, factory space, rob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ybeans have land, labor, 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can be thought of shifting inputs from country to country, thereby equalizing supply of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s “factor price equal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1.5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d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133720"/>
            <a:ext cx="9141480" cy="4416840"/>
            <a:chOff x="0" y="2133720"/>
            <a:chExt cx="9141480" cy="4416840"/>
          </a:xfrm>
        </p:grpSpPr>
        <p:graphicFrame>
          <p:nvGraphicFramePr>
            <p:cNvPr id="45" name=""/>
            <p:cNvGraphicFramePr/>
            <p:nvPr/>
          </p:nvGraphicFramePr>
          <p:xfrm>
            <a:off x="0" y="2133720"/>
            <a:ext cx="4559400" cy="4405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133720"/>
                      <a:ext cx="4559400" cy="44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4572000" y="2133720"/>
            <a:ext cx="4569480" cy="44168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133720"/>
                      <a:ext cx="4569480" cy="441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486720" y="4085280"/>
              <a:ext cx="7635960" cy="14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6640" y="3248280"/>
              <a:ext cx="2920680" cy="9500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99320" y="3974760"/>
              <a:ext cx="2888280" cy="88776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4560" y="2698200"/>
              <a:ext cx="116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4920" y="4885200"/>
              <a:ext cx="1281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73120" y="2896560"/>
              <a:ext cx="11617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41920" y="2158920"/>
              <a:ext cx="142524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240" y="1523880"/>
            <a:ext cx="7348320" cy="5042880"/>
            <a:chOff x="228240" y="1523880"/>
            <a:chExt cx="7348320" cy="5042880"/>
          </a:xfrm>
        </p:grpSpPr>
        <p:grpSp>
          <p:nvGrpSpPr>
            <p:cNvPr id="58" name=""/>
            <p:cNvGrpSpPr/>
            <p:nvPr/>
          </p:nvGrpSpPr>
          <p:grpSpPr>
            <a:xfrm>
              <a:off x="228240" y="1523880"/>
              <a:ext cx="7348320" cy="5042880"/>
              <a:chOff x="228240" y="1523880"/>
              <a:chExt cx="7348320" cy="504288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673920" y="1870200"/>
                <a:ext cx="6534720" cy="4156920"/>
                <a:chOff x="673920" y="1870200"/>
                <a:chExt cx="6534720" cy="41569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673920" y="1870200"/>
                  <a:ext cx="0" cy="415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73920" y="6027120"/>
                  <a:ext cx="65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76920" y="1523880"/>
                <a:ext cx="86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67520" y="6200640"/>
                <a:ext cx="1409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lin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40" y="2042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240" y="3949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240" y="290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240" y="49881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09920" y="2216520"/>
              <a:ext cx="5346720" cy="3810600"/>
              <a:chOff x="709920" y="2216520"/>
              <a:chExt cx="5346720" cy="3810600"/>
            </a:xfrm>
          </p:grpSpPr>
          <p:sp>
            <p:nvSpPr>
              <p:cNvPr id="69" name=""/>
              <p:cNvSpPr/>
              <p:nvPr/>
            </p:nvSpPr>
            <p:spPr>
              <a:xfrm>
                <a:off x="709920" y="2216520"/>
                <a:ext cx="5346720" cy="3810600"/>
              </a:xfrm>
              <a:custGeom>
                <a:avLst/>
                <a:gdLst/>
                <a:ahLst/>
                <a:rect l="l" t="t" r="r" b="b"/>
                <a:pathLst>
                  <a:path w="4320" h="3960">
                    <a:moveTo>
                      <a:pt x="0" y="0"/>
                    </a:moveTo>
                    <a:cubicBezTo>
                      <a:pt x="1320" y="210"/>
                      <a:pt x="2640" y="420"/>
                      <a:pt x="3360" y="1080"/>
                    </a:cubicBezTo>
                    <a:cubicBezTo>
                      <a:pt x="4080" y="1740"/>
                      <a:pt x="4160" y="3480"/>
                      <a:pt x="4320" y="396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9920" y="2216520"/>
                <a:ext cx="5346720" cy="3810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Possibilities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ve toward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inishing marginal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arginal cost of X in terms of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Slope = marginal cost of Y in terms of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PP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8600" y="1371600"/>
            <a:ext cx="8458200" cy="4800600"/>
            <a:chOff x="228600" y="1371600"/>
            <a:chExt cx="845820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228600" y="1371600"/>
              <a:ext cx="8458200" cy="4800600"/>
              <a:chOff x="228600" y="1371600"/>
              <a:chExt cx="8458200" cy="480060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28600" y="1371600"/>
                <a:ext cx="4487040" cy="4800600"/>
                <a:chOff x="228600" y="1371600"/>
                <a:chExt cx="4487040" cy="48006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960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960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5944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2860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876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20724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88316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5876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199760" y="1371600"/>
                <a:ext cx="4487040" cy="4800600"/>
                <a:chOff x="4199760" y="1371600"/>
                <a:chExt cx="4487040" cy="4800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0760" y="1997640"/>
                  <a:ext cx="0" cy="354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640760" y="5546160"/>
                  <a:ext cx="308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30600" y="1371600"/>
                  <a:ext cx="106704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unces o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veget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199760" y="199764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309920" y="366732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178400" y="5546160"/>
                  <a:ext cx="4410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854320" y="5546160"/>
                  <a:ext cx="3308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29920" y="5337360"/>
                  <a:ext cx="95688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or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’oeuv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669600" y="2206440"/>
              <a:ext cx="1323720" cy="333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0400" y="220644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2440" y="1996560"/>
              <a:ext cx="147888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b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1120" y="3876120"/>
              <a:ext cx="2757600" cy="166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has higher cost of hors d’oeuv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Ann has lower cost of ou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dvantage = lower opportun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have a comparative advantage in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ar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arky means withou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both value items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{hors d’oeuvres, oz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, they can have 40 of both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, they can have 60 of each by speci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 from 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219320"/>
            <a:ext cx="7466040" cy="5181480"/>
            <a:chOff x="304920" y="1219320"/>
            <a:chExt cx="7466040" cy="5181480"/>
          </a:xfrm>
        </p:grpSpPr>
        <p:grpSp>
          <p:nvGrpSpPr>
            <p:cNvPr id="104" name=""/>
            <p:cNvGrpSpPr/>
            <p:nvPr/>
          </p:nvGrpSpPr>
          <p:grpSpPr>
            <a:xfrm>
              <a:off x="304920" y="1219320"/>
              <a:ext cx="7466040" cy="5181480"/>
              <a:chOff x="304920" y="1219320"/>
              <a:chExt cx="7466040" cy="518148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426960" y="1219320"/>
                <a:ext cx="7344000" cy="5181480"/>
                <a:chOff x="426960" y="1219320"/>
                <a:chExt cx="7344000" cy="5181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26960" y="3057840"/>
                  <a:ext cx="4892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49000" y="4394880"/>
                  <a:ext cx="36684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732120" y="5899320"/>
                  <a:ext cx="4896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262960" y="5899320"/>
                  <a:ext cx="367200" cy="33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93800" y="1219320"/>
                  <a:ext cx="6977160" cy="5181480"/>
                  <a:chOff x="793800" y="1219320"/>
                  <a:chExt cx="6977160" cy="518148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93800" y="1219320"/>
                    <a:ext cx="1184400" cy="4679640"/>
                    <a:chOff x="793800" y="1219320"/>
                    <a:chExt cx="1184400" cy="467964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915840" y="1920960"/>
                      <a:ext cx="0" cy="3978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93800" y="1219320"/>
                      <a:ext cx="1184400" cy="93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nces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915840" y="5732280"/>
                    <a:ext cx="6855120" cy="668520"/>
                    <a:chOff x="915840" y="5732280"/>
                    <a:chExt cx="6855120" cy="6685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915840" y="5899320"/>
                      <a:ext cx="5348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264000" y="5732280"/>
                      <a:ext cx="1506960" cy="66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’oeuv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7" name=""/>
              <p:cNvSpPr/>
              <p:nvPr/>
            </p:nvSpPr>
            <p:spPr>
              <a:xfrm>
                <a:off x="5324040" y="589932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1887840"/>
                <a:ext cx="489600" cy="33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854880" y="3057840"/>
              <a:ext cx="1713600" cy="28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08440" y="2555640"/>
              <a:ext cx="12290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si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on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6920" y="1833840"/>
              <a:ext cx="2937960" cy="12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George can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s or deliv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, Ann can produ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zzas or deliver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both work the same number of hours, what minimizes the total time of making and delivering 20 pizz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0" y="1523880"/>
                <a:ext cx="838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4:47:41Z</dcterms:created>
  <dc:creator>Randolph P McAfee</dc:creator>
  <dc:description/>
  <dc:language>en-US</dc:language>
  <cp:lastModifiedBy>Randolph P McAfee</cp:lastModifiedBy>
  <dcterms:modified xsi:type="dcterms:W3CDTF">2005-01-11T20:37:16Z</dcterms:modified>
  <cp:revision>9</cp:revision>
  <dc:subject/>
  <dc:title>Supply &amp; Demand</dc:title>
</cp:coreProperties>
</file>