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132-AD92-45E6-80F4-B8D09480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8AA-3CB2-4672-8492-E56D5A47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E62-9EB7-45B0-BD1E-36787527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9DC-16D9-4F1E-B8AF-A3681BD9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1CC-2F7B-48C7-8B7C-CAEC1900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03C-81F6-4502-B536-426FD5E1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33A-7FE9-4AB7-9635-57CE83EB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EEE-3BCA-470F-B0F3-1E7E27BC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840-D688-4813-9FB4-D7D00D50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FA1-9A31-4074-8362-41E2BA73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EE3-0DA2-440E-AB5C-9670C5FC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96F-F82F-4513-ACA8-702402E1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380C-8D3B-4416-854A-D794A9C5A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Inter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 goal: increase seller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bacco,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if demand in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d labor support for minimum wage reduces effectiveness of sub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 weight loss of potential gains from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uch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fficien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Ce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31840" y="1143000"/>
            <a:ext cx="7284240" cy="5410080"/>
            <a:chOff x="231840" y="1143000"/>
            <a:chExt cx="7284240" cy="5410080"/>
          </a:xfrm>
        </p:grpSpPr>
        <p:sp>
          <p:nvSpPr>
            <p:cNvPr id="145" name=""/>
            <p:cNvSpPr/>
            <p:nvPr/>
          </p:nvSpPr>
          <p:spPr>
            <a:xfrm flipV="1">
              <a:off x="1676520" y="1529280"/>
              <a:ext cx="4586040" cy="40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78000" y="5393880"/>
              <a:ext cx="22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98640" y="1335960"/>
              <a:ext cx="16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31840" y="1143000"/>
              <a:ext cx="7284240" cy="5410080"/>
              <a:chOff x="231840" y="1143000"/>
              <a:chExt cx="7284240" cy="5410080"/>
            </a:xfrm>
          </p:grpSpPr>
          <p:sp>
            <p:nvSpPr>
              <p:cNvPr id="149" name=""/>
              <p:cNvSpPr/>
              <p:nvPr/>
            </p:nvSpPr>
            <p:spPr>
              <a:xfrm>
                <a:off x="3204720" y="2711160"/>
                <a:ext cx="884160" cy="1529280"/>
              </a:xfrm>
              <a:custGeom>
                <a:avLst/>
                <a:gdLst/>
                <a:ahLst/>
                <a:rect l="l" t="t" r="r" b="b"/>
                <a:pathLst>
                  <a:path w="690" h="1425">
                    <a:moveTo>
                      <a:pt x="6" y="1404"/>
                    </a:moveTo>
                    <a:cubicBezTo>
                      <a:pt x="16" y="1401"/>
                      <a:pt x="23" y="1395"/>
                      <a:pt x="33" y="1392"/>
                    </a:cubicBezTo>
                    <a:cubicBezTo>
                      <a:pt x="43" y="1377"/>
                      <a:pt x="51" y="1360"/>
                      <a:pt x="66" y="1350"/>
                    </a:cubicBezTo>
                    <a:cubicBezTo>
                      <a:pt x="74" y="1326"/>
                      <a:pt x="62" y="1354"/>
                      <a:pt x="78" y="1338"/>
                    </a:cubicBezTo>
                    <a:cubicBezTo>
                      <a:pt x="83" y="1333"/>
                      <a:pt x="85" y="1325"/>
                      <a:pt x="90" y="1320"/>
                    </a:cubicBezTo>
                    <a:cubicBezTo>
                      <a:pt x="94" y="1309"/>
                      <a:pt x="108" y="1295"/>
                      <a:pt x="117" y="1287"/>
                    </a:cubicBezTo>
                    <a:cubicBezTo>
                      <a:pt x="122" y="1282"/>
                      <a:pt x="135" y="1275"/>
                      <a:pt x="135" y="1275"/>
                    </a:cubicBezTo>
                    <a:cubicBezTo>
                      <a:pt x="146" y="1259"/>
                      <a:pt x="158" y="1242"/>
                      <a:pt x="177" y="1236"/>
                    </a:cubicBezTo>
                    <a:cubicBezTo>
                      <a:pt x="187" y="1221"/>
                      <a:pt x="204" y="1207"/>
                      <a:pt x="219" y="1197"/>
                    </a:cubicBezTo>
                    <a:cubicBezTo>
                      <a:pt x="241" y="1165"/>
                      <a:pt x="270" y="1134"/>
                      <a:pt x="297" y="1107"/>
                    </a:cubicBezTo>
                    <a:cubicBezTo>
                      <a:pt x="312" y="1092"/>
                      <a:pt x="321" y="1074"/>
                      <a:pt x="339" y="1062"/>
                    </a:cubicBezTo>
                    <a:cubicBezTo>
                      <a:pt x="349" y="1046"/>
                      <a:pt x="362" y="1030"/>
                      <a:pt x="378" y="1020"/>
                    </a:cubicBezTo>
                    <a:cubicBezTo>
                      <a:pt x="386" y="996"/>
                      <a:pt x="374" y="1024"/>
                      <a:pt x="390" y="1008"/>
                    </a:cubicBezTo>
                    <a:cubicBezTo>
                      <a:pt x="406" y="992"/>
                      <a:pt x="378" y="1004"/>
                      <a:pt x="402" y="996"/>
                    </a:cubicBezTo>
                    <a:cubicBezTo>
                      <a:pt x="415" y="976"/>
                      <a:pt x="438" y="964"/>
                      <a:pt x="453" y="945"/>
                    </a:cubicBezTo>
                    <a:cubicBezTo>
                      <a:pt x="465" y="930"/>
                      <a:pt x="478" y="905"/>
                      <a:pt x="492" y="891"/>
                    </a:cubicBezTo>
                    <a:cubicBezTo>
                      <a:pt x="496" y="879"/>
                      <a:pt x="502" y="874"/>
                      <a:pt x="513" y="867"/>
                    </a:cubicBezTo>
                    <a:cubicBezTo>
                      <a:pt x="517" y="855"/>
                      <a:pt x="529" y="844"/>
                      <a:pt x="540" y="837"/>
                    </a:cubicBezTo>
                    <a:cubicBezTo>
                      <a:pt x="554" y="816"/>
                      <a:pt x="545" y="821"/>
                      <a:pt x="561" y="816"/>
                    </a:cubicBezTo>
                    <a:cubicBezTo>
                      <a:pt x="567" y="807"/>
                      <a:pt x="585" y="795"/>
                      <a:pt x="585" y="795"/>
                    </a:cubicBezTo>
                    <a:cubicBezTo>
                      <a:pt x="599" y="774"/>
                      <a:pt x="590" y="779"/>
                      <a:pt x="606" y="774"/>
                    </a:cubicBezTo>
                    <a:cubicBezTo>
                      <a:pt x="614" y="751"/>
                      <a:pt x="602" y="778"/>
                      <a:pt x="618" y="759"/>
                    </a:cubicBezTo>
                    <a:cubicBezTo>
                      <a:pt x="631" y="742"/>
                      <a:pt x="660" y="697"/>
                      <a:pt x="681" y="690"/>
                    </a:cubicBezTo>
                    <a:cubicBezTo>
                      <a:pt x="690" y="676"/>
                      <a:pt x="684" y="669"/>
                      <a:pt x="678" y="654"/>
                    </a:cubicBezTo>
                    <a:cubicBezTo>
                      <a:pt x="675" y="629"/>
                      <a:pt x="668" y="617"/>
                      <a:pt x="660" y="594"/>
                    </a:cubicBezTo>
                    <a:cubicBezTo>
                      <a:pt x="659" y="590"/>
                      <a:pt x="662" y="602"/>
                      <a:pt x="663" y="606"/>
                    </a:cubicBezTo>
                    <a:cubicBezTo>
                      <a:pt x="668" y="619"/>
                      <a:pt x="673" y="633"/>
                      <a:pt x="681" y="645"/>
                    </a:cubicBezTo>
                    <a:cubicBezTo>
                      <a:pt x="663" y="651"/>
                      <a:pt x="657" y="628"/>
                      <a:pt x="642" y="618"/>
                    </a:cubicBezTo>
                    <a:cubicBezTo>
                      <a:pt x="637" y="610"/>
                      <a:pt x="609" y="585"/>
                      <a:pt x="600" y="579"/>
                    </a:cubicBezTo>
                    <a:cubicBezTo>
                      <a:pt x="588" y="561"/>
                      <a:pt x="580" y="555"/>
                      <a:pt x="561" y="543"/>
                    </a:cubicBezTo>
                    <a:cubicBezTo>
                      <a:pt x="551" y="536"/>
                      <a:pt x="547" y="526"/>
                      <a:pt x="537" y="519"/>
                    </a:cubicBezTo>
                    <a:cubicBezTo>
                      <a:pt x="520" y="494"/>
                      <a:pt x="496" y="470"/>
                      <a:pt x="465" y="462"/>
                    </a:cubicBezTo>
                    <a:cubicBezTo>
                      <a:pt x="447" y="450"/>
                      <a:pt x="442" y="425"/>
                      <a:pt x="429" y="408"/>
                    </a:cubicBezTo>
                    <a:cubicBezTo>
                      <a:pt x="423" y="391"/>
                      <a:pt x="395" y="355"/>
                      <a:pt x="381" y="345"/>
                    </a:cubicBezTo>
                    <a:cubicBezTo>
                      <a:pt x="377" y="332"/>
                      <a:pt x="374" y="330"/>
                      <a:pt x="363" y="324"/>
                    </a:cubicBezTo>
                    <a:cubicBezTo>
                      <a:pt x="357" y="320"/>
                      <a:pt x="345" y="312"/>
                      <a:pt x="345" y="312"/>
                    </a:cubicBezTo>
                    <a:cubicBezTo>
                      <a:pt x="336" y="298"/>
                      <a:pt x="314" y="283"/>
                      <a:pt x="300" y="273"/>
                    </a:cubicBezTo>
                    <a:cubicBezTo>
                      <a:pt x="294" y="269"/>
                      <a:pt x="282" y="261"/>
                      <a:pt x="282" y="261"/>
                    </a:cubicBezTo>
                    <a:cubicBezTo>
                      <a:pt x="281" y="258"/>
                      <a:pt x="269" y="239"/>
                      <a:pt x="267" y="237"/>
                    </a:cubicBezTo>
                    <a:cubicBezTo>
                      <a:pt x="262" y="232"/>
                      <a:pt x="249" y="225"/>
                      <a:pt x="249" y="225"/>
                    </a:cubicBezTo>
                    <a:cubicBezTo>
                      <a:pt x="225" y="189"/>
                      <a:pt x="180" y="147"/>
                      <a:pt x="144" y="123"/>
                    </a:cubicBezTo>
                    <a:cubicBezTo>
                      <a:pt x="138" y="110"/>
                      <a:pt x="117" y="90"/>
                      <a:pt x="117" y="90"/>
                    </a:cubicBezTo>
                    <a:cubicBezTo>
                      <a:pt x="111" y="73"/>
                      <a:pt x="90" y="58"/>
                      <a:pt x="75" y="48"/>
                    </a:cubicBezTo>
                    <a:cubicBezTo>
                      <a:pt x="67" y="36"/>
                      <a:pt x="71" y="40"/>
                      <a:pt x="57" y="30"/>
                    </a:cubicBezTo>
                    <a:cubicBezTo>
                      <a:pt x="51" y="26"/>
                      <a:pt x="39" y="18"/>
                      <a:pt x="39" y="18"/>
                    </a:cubicBezTo>
                    <a:cubicBezTo>
                      <a:pt x="32" y="7"/>
                      <a:pt x="26" y="7"/>
                      <a:pt x="15" y="0"/>
                    </a:cubicBezTo>
                    <a:cubicBezTo>
                      <a:pt x="11" y="13"/>
                      <a:pt x="7" y="26"/>
                      <a:pt x="3" y="39"/>
                    </a:cubicBezTo>
                    <a:cubicBezTo>
                      <a:pt x="2" y="42"/>
                      <a:pt x="0" y="48"/>
                      <a:pt x="0" y="48"/>
                    </a:cubicBezTo>
                    <a:cubicBezTo>
                      <a:pt x="15" y="136"/>
                      <a:pt x="11" y="229"/>
                      <a:pt x="15" y="318"/>
                    </a:cubicBezTo>
                    <a:cubicBezTo>
                      <a:pt x="11" y="362"/>
                      <a:pt x="9" y="406"/>
                      <a:pt x="6" y="450"/>
                    </a:cubicBezTo>
                    <a:cubicBezTo>
                      <a:pt x="17" y="557"/>
                      <a:pt x="11" y="674"/>
                      <a:pt x="15" y="783"/>
                    </a:cubicBezTo>
                    <a:cubicBezTo>
                      <a:pt x="12" y="873"/>
                      <a:pt x="13" y="963"/>
                      <a:pt x="6" y="1053"/>
                    </a:cubicBezTo>
                    <a:cubicBezTo>
                      <a:pt x="16" y="1130"/>
                      <a:pt x="12" y="1197"/>
                      <a:pt x="9" y="1278"/>
                    </a:cubicBezTo>
                    <a:cubicBezTo>
                      <a:pt x="8" y="1303"/>
                      <a:pt x="3" y="1353"/>
                      <a:pt x="3" y="1353"/>
                    </a:cubicBezTo>
                    <a:cubicBezTo>
                      <a:pt x="6" y="1408"/>
                      <a:pt x="6" y="1425"/>
                      <a:pt x="6" y="1404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001680" y="5975640"/>
                <a:ext cx="241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1260000" y="1529280"/>
                <a:ext cx="6114240" cy="4443840"/>
                <a:chOff x="1260000" y="1529280"/>
                <a:chExt cx="6114240" cy="44438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260000" y="1529280"/>
                  <a:ext cx="0" cy="444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260000" y="5973120"/>
                  <a:ext cx="611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981720" y="11430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73520" y="57780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76520" y="1335960"/>
                <a:ext cx="4864320" cy="425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42720" y="5973480"/>
                <a:ext cx="61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31840" y="3654720"/>
                <a:ext cx="928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ei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55280" y="4425480"/>
                <a:ext cx="1033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hort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43440" y="4234320"/>
                <a:ext cx="569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18400" y="2688480"/>
                <a:ext cx="0" cy="328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96440" y="4234320"/>
                <a:ext cx="0" cy="173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Ce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allocation of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bery (“Key money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idizing discr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ing for 200,000 abandoned in NY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t Control: Small Effects at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79440" y="1295280"/>
            <a:ext cx="6775560" cy="4948200"/>
            <a:chOff x="379440" y="1295280"/>
            <a:chExt cx="6775560" cy="4948200"/>
          </a:xfrm>
        </p:grpSpPr>
        <p:sp>
          <p:nvSpPr>
            <p:cNvPr id="167" name=""/>
            <p:cNvSpPr/>
            <p:nvPr/>
          </p:nvSpPr>
          <p:spPr>
            <a:xfrm flipV="1">
              <a:off x="1681200" y="1681920"/>
              <a:ext cx="4117680" cy="406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72200" y="5550480"/>
              <a:ext cx="982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, ini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24880" y="1488600"/>
              <a:ext cx="121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RS, ini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056600" y="1295280"/>
              <a:ext cx="5883120" cy="4948200"/>
              <a:chOff x="1056600" y="1295280"/>
              <a:chExt cx="5883120" cy="49482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1306800" y="1681920"/>
                <a:ext cx="5489280" cy="4448520"/>
                <a:chOff x="1306800" y="1681920"/>
                <a:chExt cx="5489280" cy="44485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306800" y="1681920"/>
                  <a:ext cx="0" cy="444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06800" y="6130440"/>
                  <a:ext cx="5489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1056600" y="12952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797160" y="59382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623960" y="1875240"/>
              <a:ext cx="4367160" cy="425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9440" y="3422520"/>
              <a:ext cx="822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47480" y="3809520"/>
              <a:ext cx="51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28440" y="1488600"/>
              <a:ext cx="0" cy="464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95400" y="1488600"/>
              <a:ext cx="52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t Control: Long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5400" y="1295280"/>
            <a:ext cx="6707160" cy="5181480"/>
            <a:chOff x="455400" y="1295280"/>
            <a:chExt cx="6707160" cy="5181480"/>
          </a:xfrm>
        </p:grpSpPr>
        <p:sp>
          <p:nvSpPr>
            <p:cNvPr id="183" name=""/>
            <p:cNvSpPr/>
            <p:nvPr/>
          </p:nvSpPr>
          <p:spPr>
            <a:xfrm>
              <a:off x="4470840" y="5139720"/>
              <a:ext cx="98496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99"/>
                  </a:solidFill>
                  <a:latin typeface="Arial"/>
                </a:rPr>
                <a:t>D, ini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85920" y="3635280"/>
              <a:ext cx="0" cy="200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455400" y="1295280"/>
              <a:ext cx="6707160" cy="5181480"/>
              <a:chOff x="455400" y="1295280"/>
              <a:chExt cx="6707160" cy="5181480"/>
            </a:xfrm>
          </p:grpSpPr>
          <p:sp>
            <p:nvSpPr>
              <p:cNvPr id="186" name=""/>
              <p:cNvSpPr/>
              <p:nvPr/>
            </p:nvSpPr>
            <p:spPr>
              <a:xfrm flipV="1">
                <a:off x="1760400" y="1796760"/>
                <a:ext cx="4126680" cy="351000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00640" y="2298240"/>
                <a:ext cx="121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9999"/>
                    </a:solidFill>
                    <a:latin typeface="Arial"/>
                  </a:rPr>
                  <a:t>LRS, initi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134360" y="1462320"/>
                <a:ext cx="5883480" cy="4318560"/>
                <a:chOff x="1134360" y="1462320"/>
                <a:chExt cx="5883480" cy="431856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1384560" y="1796400"/>
                  <a:ext cx="5487480" cy="3844080"/>
                  <a:chOff x="1384560" y="1796400"/>
                  <a:chExt cx="5487480" cy="38440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1384560" y="1796400"/>
                    <a:ext cx="0" cy="384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1384560" y="5640480"/>
                    <a:ext cx="5487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"/>
                <p:cNvSpPr/>
                <p:nvPr/>
              </p:nvSpPr>
              <p:spPr>
                <a:xfrm>
                  <a:off x="1134360" y="146232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875280" y="547560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1702800" y="1963800"/>
                <a:ext cx="4376880" cy="367740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5400" y="3300120"/>
                <a:ext cx="822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R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63840" y="6142680"/>
                <a:ext cx="112428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hortag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25960" y="3635280"/>
                <a:ext cx="512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11960" y="1629360"/>
                <a:ext cx="0" cy="4011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78200" y="1630440"/>
                <a:ext cx="523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9999"/>
                    </a:solidFill>
                    <a:latin typeface="Arial"/>
                  </a:rPr>
                  <a:t>Ol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9999"/>
                    </a:solidFill>
                    <a:latin typeface="Arial"/>
                  </a:rPr>
                  <a:t>S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71560" y="1796760"/>
                <a:ext cx="4376880" cy="3677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1702800" y="1461960"/>
                <a:ext cx="3736800" cy="317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70480" y="1295280"/>
                <a:ext cx="566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RS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at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70120" y="4304160"/>
                <a:ext cx="892440" cy="50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, lat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865600" y="1629360"/>
                <a:ext cx="0" cy="401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117880" y="2800440"/>
                <a:ext cx="523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e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3663000" y="4843440"/>
                <a:ext cx="417600" cy="2009160"/>
              </a:xfrm>
              <a:custGeom>
                <a:avLst/>
                <a:gdLst>
                  <a:gd name="textAreaLeft" fmla="*/ 266760 w 417600"/>
                  <a:gd name="textAreaRight" fmla="*/ 417960 w 417600"/>
                  <a:gd name="textAreaTop" fmla="*/ 52200 h 2009160"/>
                  <a:gd name="textAreaBottom" fmla="*/ 1956960 h 200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Sup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04920" y="1143000"/>
            <a:ext cx="6619680" cy="5409360"/>
            <a:chOff x="304920" y="1143000"/>
            <a:chExt cx="6619680" cy="5409360"/>
          </a:xfrm>
        </p:grpSpPr>
        <p:sp>
          <p:nvSpPr>
            <p:cNvPr id="209" name=""/>
            <p:cNvSpPr/>
            <p:nvPr/>
          </p:nvSpPr>
          <p:spPr>
            <a:xfrm>
              <a:off x="1109160" y="1143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82040" y="5780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04920" y="1335960"/>
              <a:ext cx="6476040" cy="5216400"/>
              <a:chOff x="304920" y="1335960"/>
              <a:chExt cx="6476040" cy="521640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304920" y="1335960"/>
                <a:ext cx="6476040" cy="5216400"/>
                <a:chOff x="304920" y="1335960"/>
                <a:chExt cx="6476040" cy="52164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1356480" y="1528920"/>
                  <a:ext cx="5424480" cy="4443840"/>
                  <a:chOff x="1356480" y="1528920"/>
                  <a:chExt cx="5424480" cy="44438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1356480" y="1528920"/>
                    <a:ext cx="0" cy="444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1356480" y="5972760"/>
                    <a:ext cx="5424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304920" y="1335960"/>
                  <a:ext cx="6056640" cy="5216400"/>
                  <a:chOff x="304920" y="1335960"/>
                  <a:chExt cx="6056640" cy="52164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2897640" y="5973120"/>
                    <a:ext cx="28404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q</a:t>
                    </a:r>
                    <a:r>
                      <a:rPr b="0" i="1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4405320" y="5975280"/>
                    <a:ext cx="24156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q</a:t>
                    </a:r>
                    <a:r>
                      <a:rPr b="0" i="1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044160" y="2729160"/>
                    <a:ext cx="1609920" cy="324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16" h="3022">
                        <a:moveTo>
                          <a:pt x="44" y="3007"/>
                        </a:moveTo>
                        <a:cubicBezTo>
                          <a:pt x="66" y="2912"/>
                          <a:pt x="62" y="2811"/>
                          <a:pt x="66" y="2715"/>
                        </a:cubicBezTo>
                        <a:cubicBezTo>
                          <a:pt x="62" y="2592"/>
                          <a:pt x="41" y="2420"/>
                          <a:pt x="74" y="2295"/>
                        </a:cubicBezTo>
                        <a:cubicBezTo>
                          <a:pt x="96" y="2130"/>
                          <a:pt x="71" y="1923"/>
                          <a:pt x="66" y="1762"/>
                        </a:cubicBezTo>
                        <a:cubicBezTo>
                          <a:pt x="63" y="1662"/>
                          <a:pt x="78" y="1632"/>
                          <a:pt x="36" y="1567"/>
                        </a:cubicBezTo>
                        <a:cubicBezTo>
                          <a:pt x="19" y="1493"/>
                          <a:pt x="0" y="1450"/>
                          <a:pt x="74" y="1402"/>
                        </a:cubicBezTo>
                        <a:cubicBezTo>
                          <a:pt x="79" y="1395"/>
                          <a:pt x="83" y="1386"/>
                          <a:pt x="89" y="1380"/>
                        </a:cubicBezTo>
                        <a:cubicBezTo>
                          <a:pt x="95" y="1374"/>
                          <a:pt x="106" y="1372"/>
                          <a:pt x="111" y="1365"/>
                        </a:cubicBezTo>
                        <a:cubicBezTo>
                          <a:pt x="116" y="1359"/>
                          <a:pt x="115" y="1349"/>
                          <a:pt x="119" y="1342"/>
                        </a:cubicBezTo>
                        <a:cubicBezTo>
                          <a:pt x="151" y="1285"/>
                          <a:pt x="194" y="1237"/>
                          <a:pt x="231" y="1185"/>
                        </a:cubicBezTo>
                        <a:cubicBezTo>
                          <a:pt x="280" y="1116"/>
                          <a:pt x="210" y="1191"/>
                          <a:pt x="269" y="1132"/>
                        </a:cubicBezTo>
                        <a:cubicBezTo>
                          <a:pt x="274" y="1116"/>
                          <a:pt x="277" y="1099"/>
                          <a:pt x="291" y="1087"/>
                        </a:cubicBezTo>
                        <a:cubicBezTo>
                          <a:pt x="305" y="1075"/>
                          <a:pt x="336" y="1057"/>
                          <a:pt x="336" y="1057"/>
                        </a:cubicBezTo>
                        <a:cubicBezTo>
                          <a:pt x="356" y="1027"/>
                          <a:pt x="389" y="1002"/>
                          <a:pt x="419" y="982"/>
                        </a:cubicBezTo>
                        <a:cubicBezTo>
                          <a:pt x="457" y="906"/>
                          <a:pt x="410" y="982"/>
                          <a:pt x="456" y="945"/>
                        </a:cubicBezTo>
                        <a:cubicBezTo>
                          <a:pt x="463" y="939"/>
                          <a:pt x="465" y="928"/>
                          <a:pt x="471" y="922"/>
                        </a:cubicBezTo>
                        <a:cubicBezTo>
                          <a:pt x="477" y="916"/>
                          <a:pt x="486" y="912"/>
                          <a:pt x="494" y="907"/>
                        </a:cubicBezTo>
                        <a:cubicBezTo>
                          <a:pt x="510" y="858"/>
                          <a:pt x="488" y="911"/>
                          <a:pt x="524" y="870"/>
                        </a:cubicBezTo>
                        <a:cubicBezTo>
                          <a:pt x="575" y="813"/>
                          <a:pt x="530" y="834"/>
                          <a:pt x="576" y="817"/>
                        </a:cubicBezTo>
                        <a:cubicBezTo>
                          <a:pt x="581" y="810"/>
                          <a:pt x="585" y="801"/>
                          <a:pt x="591" y="795"/>
                        </a:cubicBezTo>
                        <a:cubicBezTo>
                          <a:pt x="598" y="789"/>
                          <a:pt x="608" y="787"/>
                          <a:pt x="614" y="780"/>
                        </a:cubicBezTo>
                        <a:cubicBezTo>
                          <a:pt x="665" y="723"/>
                          <a:pt x="620" y="744"/>
                          <a:pt x="666" y="727"/>
                        </a:cubicBezTo>
                        <a:cubicBezTo>
                          <a:pt x="695" y="685"/>
                          <a:pt x="665" y="724"/>
                          <a:pt x="711" y="682"/>
                        </a:cubicBezTo>
                        <a:cubicBezTo>
                          <a:pt x="742" y="653"/>
                          <a:pt x="766" y="624"/>
                          <a:pt x="801" y="600"/>
                        </a:cubicBezTo>
                        <a:cubicBezTo>
                          <a:pt x="820" y="570"/>
                          <a:pt x="842" y="563"/>
                          <a:pt x="869" y="540"/>
                        </a:cubicBezTo>
                        <a:cubicBezTo>
                          <a:pt x="894" y="518"/>
                          <a:pt x="897" y="498"/>
                          <a:pt x="929" y="487"/>
                        </a:cubicBezTo>
                        <a:cubicBezTo>
                          <a:pt x="947" y="430"/>
                          <a:pt x="920" y="496"/>
                          <a:pt x="959" y="457"/>
                        </a:cubicBezTo>
                        <a:cubicBezTo>
                          <a:pt x="979" y="437"/>
                          <a:pt x="993" y="412"/>
                          <a:pt x="1011" y="390"/>
                        </a:cubicBezTo>
                        <a:cubicBezTo>
                          <a:pt x="1052" y="340"/>
                          <a:pt x="1092" y="277"/>
                          <a:pt x="1146" y="240"/>
                        </a:cubicBezTo>
                        <a:cubicBezTo>
                          <a:pt x="1184" y="182"/>
                          <a:pt x="1136" y="249"/>
                          <a:pt x="1184" y="202"/>
                        </a:cubicBezTo>
                        <a:cubicBezTo>
                          <a:pt x="1213" y="174"/>
                          <a:pt x="1231" y="133"/>
                          <a:pt x="1259" y="105"/>
                        </a:cubicBezTo>
                        <a:cubicBezTo>
                          <a:pt x="1294" y="70"/>
                          <a:pt x="1335" y="42"/>
                          <a:pt x="1364" y="0"/>
                        </a:cubicBezTo>
                        <a:cubicBezTo>
                          <a:pt x="1414" y="50"/>
                          <a:pt x="1403" y="25"/>
                          <a:pt x="1416" y="67"/>
                        </a:cubicBezTo>
                        <a:cubicBezTo>
                          <a:pt x="1369" y="84"/>
                          <a:pt x="1388" y="117"/>
                          <a:pt x="1394" y="165"/>
                        </a:cubicBezTo>
                        <a:cubicBezTo>
                          <a:pt x="1383" y="195"/>
                          <a:pt x="1395" y="215"/>
                          <a:pt x="1401" y="247"/>
                        </a:cubicBezTo>
                        <a:cubicBezTo>
                          <a:pt x="1389" y="287"/>
                          <a:pt x="1385" y="328"/>
                          <a:pt x="1371" y="367"/>
                        </a:cubicBezTo>
                        <a:cubicBezTo>
                          <a:pt x="1367" y="425"/>
                          <a:pt x="1355" y="482"/>
                          <a:pt x="1356" y="540"/>
                        </a:cubicBezTo>
                        <a:cubicBezTo>
                          <a:pt x="1358" y="670"/>
                          <a:pt x="1371" y="930"/>
                          <a:pt x="1371" y="930"/>
                        </a:cubicBezTo>
                        <a:cubicBezTo>
                          <a:pt x="1363" y="1056"/>
                          <a:pt x="1322" y="1212"/>
                          <a:pt x="1364" y="1327"/>
                        </a:cubicBezTo>
                        <a:cubicBezTo>
                          <a:pt x="1348" y="1435"/>
                          <a:pt x="1355" y="1553"/>
                          <a:pt x="1349" y="1665"/>
                        </a:cubicBezTo>
                        <a:cubicBezTo>
                          <a:pt x="1356" y="1952"/>
                          <a:pt x="1336" y="2241"/>
                          <a:pt x="1364" y="2527"/>
                        </a:cubicBezTo>
                        <a:cubicBezTo>
                          <a:pt x="1369" y="2632"/>
                          <a:pt x="1380" y="2747"/>
                          <a:pt x="1349" y="2850"/>
                        </a:cubicBezTo>
                        <a:cubicBezTo>
                          <a:pt x="1351" y="2867"/>
                          <a:pt x="1356" y="2885"/>
                          <a:pt x="1356" y="2902"/>
                        </a:cubicBezTo>
                        <a:cubicBezTo>
                          <a:pt x="1356" y="2942"/>
                          <a:pt x="1349" y="3022"/>
                          <a:pt x="1349" y="3022"/>
                        </a:cubicBezTo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304920" y="1335960"/>
                    <a:ext cx="6056640" cy="4636800"/>
                    <a:chOff x="304920" y="1335960"/>
                    <a:chExt cx="6056640" cy="463680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3072600" y="2734560"/>
                      <a:ext cx="784440" cy="152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0" h="1425">
                          <a:moveTo>
                            <a:pt x="6" y="1404"/>
                          </a:moveTo>
                          <a:cubicBezTo>
                            <a:pt x="16" y="1401"/>
                            <a:pt x="23" y="1395"/>
                            <a:pt x="33" y="1392"/>
                          </a:cubicBezTo>
                          <a:cubicBezTo>
                            <a:pt x="43" y="1377"/>
                            <a:pt x="51" y="1360"/>
                            <a:pt x="66" y="1350"/>
                          </a:cubicBezTo>
                          <a:cubicBezTo>
                            <a:pt x="74" y="1326"/>
                            <a:pt x="62" y="1354"/>
                            <a:pt x="78" y="1338"/>
                          </a:cubicBezTo>
                          <a:cubicBezTo>
                            <a:pt x="83" y="1333"/>
                            <a:pt x="85" y="1325"/>
                            <a:pt x="90" y="1320"/>
                          </a:cubicBezTo>
                          <a:cubicBezTo>
                            <a:pt x="94" y="1309"/>
                            <a:pt x="108" y="1295"/>
                            <a:pt x="117" y="1287"/>
                          </a:cubicBezTo>
                          <a:cubicBezTo>
                            <a:pt x="122" y="1282"/>
                            <a:pt x="135" y="1275"/>
                            <a:pt x="135" y="1275"/>
                          </a:cubicBezTo>
                          <a:cubicBezTo>
                            <a:pt x="146" y="1259"/>
                            <a:pt x="158" y="1242"/>
                            <a:pt x="177" y="1236"/>
                          </a:cubicBezTo>
                          <a:cubicBezTo>
                            <a:pt x="187" y="1221"/>
                            <a:pt x="204" y="1207"/>
                            <a:pt x="219" y="1197"/>
                          </a:cubicBezTo>
                          <a:cubicBezTo>
                            <a:pt x="241" y="1165"/>
                            <a:pt x="270" y="1134"/>
                            <a:pt x="297" y="1107"/>
                          </a:cubicBezTo>
                          <a:cubicBezTo>
                            <a:pt x="312" y="1092"/>
                            <a:pt x="321" y="1074"/>
                            <a:pt x="339" y="1062"/>
                          </a:cubicBezTo>
                          <a:cubicBezTo>
                            <a:pt x="349" y="1046"/>
                            <a:pt x="362" y="1030"/>
                            <a:pt x="378" y="1020"/>
                          </a:cubicBezTo>
                          <a:cubicBezTo>
                            <a:pt x="386" y="996"/>
                            <a:pt x="374" y="1024"/>
                            <a:pt x="390" y="1008"/>
                          </a:cubicBezTo>
                          <a:cubicBezTo>
                            <a:pt x="406" y="992"/>
                            <a:pt x="378" y="1004"/>
                            <a:pt x="402" y="996"/>
                          </a:cubicBezTo>
                          <a:cubicBezTo>
                            <a:pt x="415" y="976"/>
                            <a:pt x="438" y="964"/>
                            <a:pt x="453" y="945"/>
                          </a:cubicBezTo>
                          <a:cubicBezTo>
                            <a:pt x="465" y="930"/>
                            <a:pt x="478" y="905"/>
                            <a:pt x="492" y="891"/>
                          </a:cubicBezTo>
                          <a:cubicBezTo>
                            <a:pt x="496" y="879"/>
                            <a:pt x="502" y="874"/>
                            <a:pt x="513" y="867"/>
                          </a:cubicBezTo>
                          <a:cubicBezTo>
                            <a:pt x="517" y="855"/>
                            <a:pt x="529" y="844"/>
                            <a:pt x="540" y="837"/>
                          </a:cubicBezTo>
                          <a:cubicBezTo>
                            <a:pt x="554" y="816"/>
                            <a:pt x="545" y="821"/>
                            <a:pt x="561" y="816"/>
                          </a:cubicBezTo>
                          <a:cubicBezTo>
                            <a:pt x="567" y="807"/>
                            <a:pt x="585" y="795"/>
                            <a:pt x="585" y="795"/>
                          </a:cubicBezTo>
                          <a:cubicBezTo>
                            <a:pt x="599" y="774"/>
                            <a:pt x="590" y="779"/>
                            <a:pt x="606" y="774"/>
                          </a:cubicBezTo>
                          <a:cubicBezTo>
                            <a:pt x="614" y="751"/>
                            <a:pt x="602" y="778"/>
                            <a:pt x="618" y="759"/>
                          </a:cubicBezTo>
                          <a:cubicBezTo>
                            <a:pt x="631" y="742"/>
                            <a:pt x="660" y="697"/>
                            <a:pt x="681" y="690"/>
                          </a:cubicBezTo>
                          <a:cubicBezTo>
                            <a:pt x="690" y="676"/>
                            <a:pt x="684" y="669"/>
                            <a:pt x="678" y="654"/>
                          </a:cubicBezTo>
                          <a:cubicBezTo>
                            <a:pt x="675" y="629"/>
                            <a:pt x="668" y="617"/>
                            <a:pt x="660" y="594"/>
                          </a:cubicBezTo>
                          <a:cubicBezTo>
                            <a:pt x="659" y="590"/>
                            <a:pt x="662" y="602"/>
                            <a:pt x="663" y="606"/>
                          </a:cubicBezTo>
                          <a:cubicBezTo>
                            <a:pt x="668" y="619"/>
                            <a:pt x="673" y="633"/>
                            <a:pt x="681" y="645"/>
                          </a:cubicBezTo>
                          <a:cubicBezTo>
                            <a:pt x="663" y="651"/>
                            <a:pt x="657" y="628"/>
                            <a:pt x="642" y="618"/>
                          </a:cubicBezTo>
                          <a:cubicBezTo>
                            <a:pt x="637" y="610"/>
                            <a:pt x="609" y="585"/>
                            <a:pt x="600" y="579"/>
                          </a:cubicBezTo>
                          <a:cubicBezTo>
                            <a:pt x="588" y="561"/>
                            <a:pt x="580" y="555"/>
                            <a:pt x="561" y="543"/>
                          </a:cubicBezTo>
                          <a:cubicBezTo>
                            <a:pt x="551" y="536"/>
                            <a:pt x="547" y="526"/>
                            <a:pt x="537" y="519"/>
                          </a:cubicBezTo>
                          <a:cubicBezTo>
                            <a:pt x="520" y="494"/>
                            <a:pt x="496" y="470"/>
                            <a:pt x="465" y="462"/>
                          </a:cubicBezTo>
                          <a:cubicBezTo>
                            <a:pt x="447" y="450"/>
                            <a:pt x="442" y="425"/>
                            <a:pt x="429" y="408"/>
                          </a:cubicBezTo>
                          <a:cubicBezTo>
                            <a:pt x="423" y="391"/>
                            <a:pt x="395" y="355"/>
                            <a:pt x="381" y="345"/>
                          </a:cubicBezTo>
                          <a:cubicBezTo>
                            <a:pt x="377" y="332"/>
                            <a:pt x="374" y="330"/>
                            <a:pt x="363" y="324"/>
                          </a:cubicBezTo>
                          <a:cubicBezTo>
                            <a:pt x="357" y="320"/>
                            <a:pt x="345" y="312"/>
                            <a:pt x="345" y="312"/>
                          </a:cubicBezTo>
                          <a:cubicBezTo>
                            <a:pt x="336" y="298"/>
                            <a:pt x="314" y="283"/>
                            <a:pt x="300" y="273"/>
                          </a:cubicBezTo>
                          <a:cubicBezTo>
                            <a:pt x="294" y="269"/>
                            <a:pt x="282" y="261"/>
                            <a:pt x="282" y="261"/>
                          </a:cubicBezTo>
                          <a:cubicBezTo>
                            <a:pt x="281" y="258"/>
                            <a:pt x="269" y="239"/>
                            <a:pt x="267" y="237"/>
                          </a:cubicBezTo>
                          <a:cubicBezTo>
                            <a:pt x="262" y="232"/>
                            <a:pt x="249" y="225"/>
                            <a:pt x="249" y="225"/>
                          </a:cubicBezTo>
                          <a:cubicBezTo>
                            <a:pt x="225" y="189"/>
                            <a:pt x="180" y="147"/>
                            <a:pt x="144" y="123"/>
                          </a:cubicBezTo>
                          <a:cubicBezTo>
                            <a:pt x="138" y="110"/>
                            <a:pt x="117" y="90"/>
                            <a:pt x="117" y="90"/>
                          </a:cubicBezTo>
                          <a:cubicBezTo>
                            <a:pt x="111" y="73"/>
                            <a:pt x="90" y="58"/>
                            <a:pt x="75" y="48"/>
                          </a:cubicBezTo>
                          <a:cubicBezTo>
                            <a:pt x="67" y="36"/>
                            <a:pt x="71" y="40"/>
                            <a:pt x="57" y="30"/>
                          </a:cubicBezTo>
                          <a:cubicBezTo>
                            <a:pt x="51" y="26"/>
                            <a:pt x="39" y="18"/>
                            <a:pt x="39" y="18"/>
                          </a:cubicBezTo>
                          <a:cubicBezTo>
                            <a:pt x="32" y="7"/>
                            <a:pt x="26" y="7"/>
                            <a:pt x="15" y="0"/>
                          </a:cubicBezTo>
                          <a:cubicBezTo>
                            <a:pt x="11" y="13"/>
                            <a:pt x="7" y="26"/>
                            <a:pt x="3" y="39"/>
                          </a:cubicBezTo>
                          <a:cubicBezTo>
                            <a:pt x="2" y="42"/>
                            <a:pt x="0" y="48"/>
                            <a:pt x="0" y="48"/>
                          </a:cubicBezTo>
                          <a:cubicBezTo>
                            <a:pt x="15" y="136"/>
                            <a:pt x="11" y="229"/>
                            <a:pt x="15" y="318"/>
                          </a:cubicBezTo>
                          <a:cubicBezTo>
                            <a:pt x="11" y="362"/>
                            <a:pt x="9" y="406"/>
                            <a:pt x="6" y="450"/>
                          </a:cubicBezTo>
                          <a:cubicBezTo>
                            <a:pt x="17" y="557"/>
                            <a:pt x="11" y="674"/>
                            <a:pt x="15" y="783"/>
                          </a:cubicBezTo>
                          <a:cubicBezTo>
                            <a:pt x="12" y="873"/>
                            <a:pt x="13" y="963"/>
                            <a:pt x="6" y="1053"/>
                          </a:cubicBezTo>
                          <a:cubicBezTo>
                            <a:pt x="16" y="1130"/>
                            <a:pt x="12" y="1197"/>
                            <a:pt x="9" y="1278"/>
                          </a:cubicBezTo>
                          <a:cubicBezTo>
                            <a:pt x="8" y="1303"/>
                            <a:pt x="3" y="1353"/>
                            <a:pt x="3" y="1353"/>
                          </a:cubicBezTo>
                          <a:cubicBezTo>
                            <a:pt x="6" y="1408"/>
                            <a:pt x="6" y="1425"/>
                            <a:pt x="6" y="1404"/>
                          </a:cubicBez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V="1">
                      <a:off x="1726200" y="1528920"/>
                      <a:ext cx="4068720" cy="40572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1726200" y="1335960"/>
                      <a:ext cx="4315680" cy="42505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163560" y="5393520"/>
                      <a:ext cx="198000" cy="57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918040" y="1335960"/>
                      <a:ext cx="182880" cy="45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304920" y="2301840"/>
                      <a:ext cx="956160" cy="747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1260000" y="2688120"/>
                      <a:ext cx="5049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3094200" y="2688120"/>
                      <a:ext cx="0" cy="3284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4600800" y="2688120"/>
                      <a:ext cx="0" cy="3284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6200000">
                      <a:off x="3625200" y="1589760"/>
                      <a:ext cx="463680" cy="1500840"/>
                    </a:xfrm>
                    <a:custGeom>
                      <a:avLst/>
                      <a:gdLst>
                        <a:gd name="textAreaLeft" fmla="*/ 296280 w 463680"/>
                        <a:gd name="textAreaRight" fmla="*/ 464040 w 463680"/>
                        <a:gd name="textAreaTop" fmla="*/ 38880 h 1500840"/>
                        <a:gd name="textAreaBottom" fmla="*/ 1461960 h 15008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5400" y="10800"/>
                            <a:pt x="0" y="10800"/>
                          </a:cubicBezTo>
                          <a:cubicBezTo>
                            <a:pt x="54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16200" y="21600"/>
                            <a:pt x="21600" y="2160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3170520" y="1528920"/>
                      <a:ext cx="1227960" cy="57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’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ch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32" name=""/>
              <p:cNvSpPr/>
              <p:nvPr/>
            </p:nvSpPr>
            <p:spPr>
              <a:xfrm>
                <a:off x="3443400" y="4427280"/>
                <a:ext cx="849240" cy="9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a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eigh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o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bacco, peanuts, NY t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mported goods (sug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s maximum qua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production allocated by historical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come wildly in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a value becomes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enefit to later produ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floors &amp; cei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able per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s T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ed on buyer, seller doesn’t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shifts demand down, or supply down, by the amount of the 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09240" y="1676520"/>
            <a:ext cx="6091200" cy="4680720"/>
            <a:chOff x="309240" y="1676520"/>
            <a:chExt cx="6091200" cy="4680720"/>
          </a:xfrm>
        </p:grpSpPr>
        <p:sp>
          <p:nvSpPr>
            <p:cNvPr id="49" name=""/>
            <p:cNvSpPr/>
            <p:nvPr/>
          </p:nvSpPr>
          <p:spPr>
            <a:xfrm>
              <a:off x="2518200" y="5916600"/>
              <a:ext cx="34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309240" y="1676520"/>
              <a:ext cx="6091200" cy="4680720"/>
              <a:chOff x="309240" y="1676520"/>
              <a:chExt cx="6091200" cy="46807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309240" y="1676520"/>
                <a:ext cx="6091200" cy="4680720"/>
                <a:chOff x="309240" y="1676520"/>
                <a:chExt cx="6091200" cy="4680720"/>
              </a:xfrm>
            </p:grpSpPr>
            <p:grpSp>
              <p:nvGrpSpPr>
                <p:cNvPr id="52" name=""/>
                <p:cNvGrpSpPr/>
                <p:nvPr/>
              </p:nvGrpSpPr>
              <p:grpSpPr>
                <a:xfrm>
                  <a:off x="786600" y="2015640"/>
                  <a:ext cx="5166720" cy="3900960"/>
                  <a:chOff x="786600" y="2015640"/>
                  <a:chExt cx="5166720" cy="390096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786600" y="2015640"/>
                    <a:ext cx="0" cy="3900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786600" y="5916600"/>
                    <a:ext cx="5166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" name=""/>
                <p:cNvSpPr/>
                <p:nvPr/>
              </p:nvSpPr>
              <p:spPr>
                <a:xfrm>
                  <a:off x="551880" y="1676520"/>
                  <a:ext cx="12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5952600" y="5746320"/>
                  <a:ext cx="7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V="1">
                  <a:off x="1138680" y="2015280"/>
                  <a:ext cx="3875400" cy="3561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138680" y="1846080"/>
                  <a:ext cx="4110480" cy="3731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5365080" y="5407920"/>
                  <a:ext cx="1035360" cy="50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efore Tax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5169600" y="1846080"/>
                  <a:ext cx="8114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efore Tax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182400" y="3711600"/>
                  <a:ext cx="0" cy="220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141000" y="5916600"/>
                  <a:ext cx="3470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9240" y="3033360"/>
                  <a:ext cx="363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603440" y="3542040"/>
                <a:ext cx="39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a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37040" y="4051080"/>
                <a:ext cx="331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124360" y="3202920"/>
                <a:ext cx="389880" cy="1017360"/>
              </a:xfrm>
              <a:custGeom>
                <a:avLst/>
                <a:gdLst>
                  <a:gd name="textAreaLeft" fmla="*/ 249120 w 389880"/>
                  <a:gd name="textAreaRight" fmla="*/ 390240 w 389880"/>
                  <a:gd name="textAreaTop" fmla="*/ 26280 h 1017360"/>
                  <a:gd name="textAreaBottom" fmla="*/ 991080 h 101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44200" y="3202920"/>
                <a:ext cx="0" cy="27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 flipH="1">
              <a:off x="824400" y="422064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24400" y="320292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d Weight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560" y="1523880"/>
            <a:ext cx="7544160" cy="4959000"/>
            <a:chOff x="151560" y="1523880"/>
            <a:chExt cx="7544160" cy="4959000"/>
          </a:xfrm>
        </p:grpSpPr>
        <p:grpSp>
          <p:nvGrpSpPr>
            <p:cNvPr id="72" name=""/>
            <p:cNvGrpSpPr/>
            <p:nvPr/>
          </p:nvGrpSpPr>
          <p:grpSpPr>
            <a:xfrm>
              <a:off x="151560" y="1523880"/>
              <a:ext cx="7544160" cy="4959000"/>
              <a:chOff x="151560" y="1523880"/>
              <a:chExt cx="7544160" cy="495900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151560" y="1523880"/>
                <a:ext cx="7544160" cy="4959000"/>
                <a:chOff x="151560" y="1523880"/>
                <a:chExt cx="7544160" cy="4959000"/>
              </a:xfrm>
            </p:grpSpPr>
            <p:grpSp>
              <p:nvGrpSpPr>
                <p:cNvPr id="74" name=""/>
                <p:cNvGrpSpPr/>
                <p:nvPr/>
              </p:nvGrpSpPr>
              <p:grpSpPr>
                <a:xfrm>
                  <a:off x="151560" y="3150360"/>
                  <a:ext cx="3375000" cy="3332160"/>
                  <a:chOff x="151560" y="3150360"/>
                  <a:chExt cx="3375000" cy="333216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3179520" y="6041880"/>
                    <a:ext cx="3470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r>
                      <a:rPr b="0" i="1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*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" name=""/>
                  <p:cNvGrpSpPr/>
                  <p:nvPr/>
                </p:nvGrpSpPr>
                <p:grpSpPr>
                  <a:xfrm>
                    <a:off x="151560" y="3150360"/>
                    <a:ext cx="3175200" cy="2891520"/>
                    <a:chOff x="151560" y="3150360"/>
                    <a:chExt cx="3175200" cy="2891520"/>
                  </a:xfrm>
                </p:grpSpPr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151560" y="3512520"/>
                      <a:ext cx="397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605520" y="3150360"/>
                      <a:ext cx="453600" cy="1083960"/>
                    </a:xfrm>
                    <a:custGeom>
                      <a:avLst/>
                      <a:gdLst>
                        <a:gd name="textAreaLeft" fmla="*/ 289800 w 453600"/>
                        <a:gd name="textAreaRight" fmla="*/ 453960 w 453600"/>
                        <a:gd name="textAreaTop" fmla="*/ 28080 h 1083960"/>
                        <a:gd name="textAreaBottom" fmla="*/ 1055880 h 10839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5400" y="10800"/>
                            <a:pt x="0" y="10800"/>
                          </a:cubicBezTo>
                          <a:cubicBezTo>
                            <a:pt x="54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16200" y="21600"/>
                            <a:pt x="21600" y="21600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3326760" y="3150360"/>
                      <a:ext cx="0" cy="2891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" name=""/>
                  <p:cNvSpPr/>
                  <p:nvPr/>
                </p:nvSpPr>
                <p:spPr>
                  <a:xfrm flipH="1">
                    <a:off x="1209960" y="4234320"/>
                    <a:ext cx="2176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flipH="1">
                    <a:off x="1209960" y="3150360"/>
                    <a:ext cx="2176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892080" y="1523880"/>
                  <a:ext cx="6803640" cy="4959000"/>
                  <a:chOff x="892080" y="1523880"/>
                  <a:chExt cx="6803640" cy="4959000"/>
                </a:xfrm>
              </p:grpSpPr>
              <p:grpSp>
                <p:nvGrpSpPr>
                  <p:cNvPr id="83" name=""/>
                  <p:cNvGrpSpPr/>
                  <p:nvPr/>
                </p:nvGrpSpPr>
                <p:grpSpPr>
                  <a:xfrm>
                    <a:off x="892080" y="1523880"/>
                    <a:ext cx="6803640" cy="4959000"/>
                    <a:chOff x="892080" y="1523880"/>
                    <a:chExt cx="6803640" cy="4959000"/>
                  </a:xfrm>
                </p:grpSpPr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1166040" y="1885320"/>
                      <a:ext cx="6009480" cy="4156920"/>
                      <a:chOff x="1166040" y="1885320"/>
                      <a:chExt cx="6009480" cy="415692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1166040" y="1885320"/>
                        <a:ext cx="0" cy="4156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1166040" y="6042240"/>
                        <a:ext cx="6009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92080" y="1523880"/>
                      <a:ext cx="1288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7176240" y="5860440"/>
                      <a:ext cx="7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 flipV="1">
                      <a:off x="1575360" y="1885320"/>
                      <a:ext cx="4507560" cy="37951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1575360" y="1704600"/>
                      <a:ext cx="4781160" cy="3975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491520" y="5500080"/>
                      <a:ext cx="1204200" cy="542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efore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258240" y="1704600"/>
                      <a:ext cx="811440" cy="440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efore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3953160" y="3692520"/>
                      <a:ext cx="0" cy="2349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3902760" y="6042240"/>
                      <a:ext cx="347040" cy="440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" name=""/>
                  <p:cNvSpPr/>
                  <p:nvPr/>
                </p:nvSpPr>
                <p:spPr>
                  <a:xfrm>
                    <a:off x="1167480" y="3150360"/>
                    <a:ext cx="2176920" cy="108432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6" name=""/>
              <p:cNvSpPr/>
              <p:nvPr/>
            </p:nvSpPr>
            <p:spPr>
              <a:xfrm>
                <a:off x="3326760" y="3150360"/>
                <a:ext cx="604800" cy="1084320"/>
              </a:xfrm>
              <a:custGeom>
                <a:avLst/>
                <a:gdLst/>
                <a:ahLst/>
                <a:rect l="l" t="t" r="r" b="b"/>
                <a:pathLst>
                  <a:path w="480" h="1080">
                    <a:moveTo>
                      <a:pt x="0" y="1080"/>
                    </a:moveTo>
                    <a:lnTo>
                      <a:pt x="480" y="540"/>
                    </a:lnTo>
                    <a:lnTo>
                      <a:pt x="0" y="0"/>
                    </a:lnTo>
                    <a:lnTo>
                      <a:pt x="0" y="108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1361520" y="2246760"/>
              <a:ext cx="12106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ven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31560" y="2066040"/>
              <a:ext cx="941040" cy="9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i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4760" y="2788920"/>
              <a:ext cx="453600" cy="90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629160" y="2969640"/>
              <a:ext cx="302400" cy="36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ntification: Constant Elast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1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57200" y="2438280"/>
                <a:ext cx="73915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ε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ε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η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68440" y="3186000"/>
                <a:ext cx="404496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t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93640" y="4419720"/>
                <a:ext cx="78804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η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η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ε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t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εη</m:t>
                        </m:r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ize (Small Ta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idence to the more inelastic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antity change small i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buyer or seller ine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12680" y="1447920"/>
                <a:ext cx="18799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76720" y="1523880"/>
                <a:ext cx="1884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ε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4120" y="1523880"/>
                <a:ext cx="281916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η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Floors &amp; Ceil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floor is a minimum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w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: Cheese, peanuts,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Actor’s G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ceiling is a maximum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ry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6120" y="1447920"/>
            <a:ext cx="7158600" cy="4959360"/>
            <a:chOff x="456120" y="1447920"/>
            <a:chExt cx="7158600" cy="4959360"/>
          </a:xfrm>
        </p:grpSpPr>
        <p:sp>
          <p:nvSpPr>
            <p:cNvPr id="121" name=""/>
            <p:cNvSpPr/>
            <p:nvPr/>
          </p:nvSpPr>
          <p:spPr>
            <a:xfrm>
              <a:off x="912600" y="14479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456120" y="1625760"/>
              <a:ext cx="7158600" cy="4781520"/>
              <a:chOff x="456120" y="1625760"/>
              <a:chExt cx="7158600" cy="4781520"/>
            </a:xfrm>
          </p:grpSpPr>
          <p:sp>
            <p:nvSpPr>
              <p:cNvPr id="123" name=""/>
              <p:cNvSpPr/>
              <p:nvPr/>
            </p:nvSpPr>
            <p:spPr>
              <a:xfrm>
                <a:off x="1243080" y="3226680"/>
                <a:ext cx="978120" cy="88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a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igh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o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456120" y="1625760"/>
                <a:ext cx="7158600" cy="4781520"/>
                <a:chOff x="456120" y="1625760"/>
                <a:chExt cx="7158600" cy="47815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183840" y="2891520"/>
                  <a:ext cx="903600" cy="1407960"/>
                </a:xfrm>
                <a:custGeom>
                  <a:avLst/>
                  <a:gdLst/>
                  <a:ahLst/>
                  <a:rect l="l" t="t" r="r" b="b"/>
                  <a:pathLst>
                    <a:path w="690" h="1425">
                      <a:moveTo>
                        <a:pt x="6" y="1404"/>
                      </a:moveTo>
                      <a:cubicBezTo>
                        <a:pt x="16" y="1401"/>
                        <a:pt x="23" y="1395"/>
                        <a:pt x="33" y="1392"/>
                      </a:cubicBezTo>
                      <a:cubicBezTo>
                        <a:pt x="43" y="1377"/>
                        <a:pt x="51" y="1360"/>
                        <a:pt x="66" y="1350"/>
                      </a:cubicBezTo>
                      <a:cubicBezTo>
                        <a:pt x="74" y="1326"/>
                        <a:pt x="62" y="1354"/>
                        <a:pt x="78" y="1338"/>
                      </a:cubicBezTo>
                      <a:cubicBezTo>
                        <a:pt x="83" y="1333"/>
                        <a:pt x="85" y="1325"/>
                        <a:pt x="90" y="1320"/>
                      </a:cubicBezTo>
                      <a:cubicBezTo>
                        <a:pt x="94" y="1309"/>
                        <a:pt x="108" y="1295"/>
                        <a:pt x="117" y="1287"/>
                      </a:cubicBezTo>
                      <a:cubicBezTo>
                        <a:pt x="122" y="1282"/>
                        <a:pt x="135" y="1275"/>
                        <a:pt x="135" y="1275"/>
                      </a:cubicBezTo>
                      <a:cubicBezTo>
                        <a:pt x="146" y="1259"/>
                        <a:pt x="158" y="1242"/>
                        <a:pt x="177" y="1236"/>
                      </a:cubicBezTo>
                      <a:cubicBezTo>
                        <a:pt x="187" y="1221"/>
                        <a:pt x="204" y="1207"/>
                        <a:pt x="219" y="1197"/>
                      </a:cubicBezTo>
                      <a:cubicBezTo>
                        <a:pt x="241" y="1165"/>
                        <a:pt x="270" y="1134"/>
                        <a:pt x="297" y="1107"/>
                      </a:cubicBezTo>
                      <a:cubicBezTo>
                        <a:pt x="312" y="1092"/>
                        <a:pt x="321" y="1074"/>
                        <a:pt x="339" y="1062"/>
                      </a:cubicBezTo>
                      <a:cubicBezTo>
                        <a:pt x="349" y="1046"/>
                        <a:pt x="362" y="1030"/>
                        <a:pt x="378" y="1020"/>
                      </a:cubicBezTo>
                      <a:cubicBezTo>
                        <a:pt x="386" y="996"/>
                        <a:pt x="374" y="1024"/>
                        <a:pt x="390" y="1008"/>
                      </a:cubicBezTo>
                      <a:cubicBezTo>
                        <a:pt x="406" y="992"/>
                        <a:pt x="378" y="1004"/>
                        <a:pt x="402" y="996"/>
                      </a:cubicBezTo>
                      <a:cubicBezTo>
                        <a:pt x="415" y="976"/>
                        <a:pt x="438" y="964"/>
                        <a:pt x="453" y="945"/>
                      </a:cubicBezTo>
                      <a:cubicBezTo>
                        <a:pt x="465" y="930"/>
                        <a:pt x="478" y="905"/>
                        <a:pt x="492" y="891"/>
                      </a:cubicBezTo>
                      <a:cubicBezTo>
                        <a:pt x="496" y="879"/>
                        <a:pt x="502" y="874"/>
                        <a:pt x="513" y="867"/>
                      </a:cubicBezTo>
                      <a:cubicBezTo>
                        <a:pt x="517" y="855"/>
                        <a:pt x="529" y="844"/>
                        <a:pt x="540" y="837"/>
                      </a:cubicBezTo>
                      <a:cubicBezTo>
                        <a:pt x="554" y="816"/>
                        <a:pt x="545" y="821"/>
                        <a:pt x="561" y="816"/>
                      </a:cubicBezTo>
                      <a:cubicBezTo>
                        <a:pt x="567" y="807"/>
                        <a:pt x="585" y="795"/>
                        <a:pt x="585" y="795"/>
                      </a:cubicBezTo>
                      <a:cubicBezTo>
                        <a:pt x="599" y="774"/>
                        <a:pt x="590" y="779"/>
                        <a:pt x="606" y="774"/>
                      </a:cubicBezTo>
                      <a:cubicBezTo>
                        <a:pt x="614" y="751"/>
                        <a:pt x="602" y="778"/>
                        <a:pt x="618" y="759"/>
                      </a:cubicBezTo>
                      <a:cubicBezTo>
                        <a:pt x="631" y="742"/>
                        <a:pt x="660" y="697"/>
                        <a:pt x="681" y="690"/>
                      </a:cubicBezTo>
                      <a:cubicBezTo>
                        <a:pt x="690" y="676"/>
                        <a:pt x="684" y="669"/>
                        <a:pt x="678" y="654"/>
                      </a:cubicBezTo>
                      <a:cubicBezTo>
                        <a:pt x="675" y="629"/>
                        <a:pt x="668" y="617"/>
                        <a:pt x="660" y="594"/>
                      </a:cubicBezTo>
                      <a:cubicBezTo>
                        <a:pt x="659" y="590"/>
                        <a:pt x="662" y="602"/>
                        <a:pt x="663" y="606"/>
                      </a:cubicBezTo>
                      <a:cubicBezTo>
                        <a:pt x="668" y="619"/>
                        <a:pt x="673" y="633"/>
                        <a:pt x="681" y="645"/>
                      </a:cubicBezTo>
                      <a:cubicBezTo>
                        <a:pt x="663" y="651"/>
                        <a:pt x="657" y="628"/>
                        <a:pt x="642" y="618"/>
                      </a:cubicBezTo>
                      <a:cubicBezTo>
                        <a:pt x="637" y="610"/>
                        <a:pt x="609" y="585"/>
                        <a:pt x="600" y="579"/>
                      </a:cubicBezTo>
                      <a:cubicBezTo>
                        <a:pt x="588" y="561"/>
                        <a:pt x="580" y="555"/>
                        <a:pt x="561" y="543"/>
                      </a:cubicBezTo>
                      <a:cubicBezTo>
                        <a:pt x="551" y="536"/>
                        <a:pt x="547" y="526"/>
                        <a:pt x="537" y="519"/>
                      </a:cubicBezTo>
                      <a:cubicBezTo>
                        <a:pt x="520" y="494"/>
                        <a:pt x="496" y="470"/>
                        <a:pt x="465" y="462"/>
                      </a:cubicBezTo>
                      <a:cubicBezTo>
                        <a:pt x="447" y="450"/>
                        <a:pt x="442" y="425"/>
                        <a:pt x="429" y="408"/>
                      </a:cubicBezTo>
                      <a:cubicBezTo>
                        <a:pt x="423" y="391"/>
                        <a:pt x="395" y="355"/>
                        <a:pt x="381" y="345"/>
                      </a:cubicBezTo>
                      <a:cubicBezTo>
                        <a:pt x="377" y="332"/>
                        <a:pt x="374" y="330"/>
                        <a:pt x="363" y="324"/>
                      </a:cubicBezTo>
                      <a:cubicBezTo>
                        <a:pt x="357" y="320"/>
                        <a:pt x="345" y="312"/>
                        <a:pt x="345" y="312"/>
                      </a:cubicBezTo>
                      <a:cubicBezTo>
                        <a:pt x="336" y="298"/>
                        <a:pt x="314" y="283"/>
                        <a:pt x="300" y="273"/>
                      </a:cubicBezTo>
                      <a:cubicBezTo>
                        <a:pt x="294" y="269"/>
                        <a:pt x="282" y="261"/>
                        <a:pt x="282" y="261"/>
                      </a:cubicBezTo>
                      <a:cubicBezTo>
                        <a:pt x="281" y="258"/>
                        <a:pt x="269" y="239"/>
                        <a:pt x="267" y="237"/>
                      </a:cubicBezTo>
                      <a:cubicBezTo>
                        <a:pt x="262" y="232"/>
                        <a:pt x="249" y="225"/>
                        <a:pt x="249" y="225"/>
                      </a:cubicBezTo>
                      <a:cubicBezTo>
                        <a:pt x="225" y="189"/>
                        <a:pt x="180" y="147"/>
                        <a:pt x="144" y="123"/>
                      </a:cubicBezTo>
                      <a:cubicBezTo>
                        <a:pt x="138" y="110"/>
                        <a:pt x="117" y="90"/>
                        <a:pt x="117" y="90"/>
                      </a:cubicBezTo>
                      <a:cubicBezTo>
                        <a:pt x="111" y="73"/>
                        <a:pt x="90" y="58"/>
                        <a:pt x="75" y="48"/>
                      </a:cubicBezTo>
                      <a:cubicBezTo>
                        <a:pt x="67" y="36"/>
                        <a:pt x="71" y="40"/>
                        <a:pt x="57" y="30"/>
                      </a:cubicBezTo>
                      <a:cubicBezTo>
                        <a:pt x="51" y="26"/>
                        <a:pt x="39" y="18"/>
                        <a:pt x="39" y="18"/>
                      </a:cubicBezTo>
                      <a:cubicBezTo>
                        <a:pt x="32" y="7"/>
                        <a:pt x="26" y="7"/>
                        <a:pt x="15" y="0"/>
                      </a:cubicBezTo>
                      <a:cubicBezTo>
                        <a:pt x="11" y="13"/>
                        <a:pt x="7" y="26"/>
                        <a:pt x="3" y="39"/>
                      </a:cubicBezTo>
                      <a:cubicBezTo>
                        <a:pt x="2" y="42"/>
                        <a:pt x="0" y="48"/>
                        <a:pt x="0" y="48"/>
                      </a:cubicBezTo>
                      <a:cubicBezTo>
                        <a:pt x="15" y="136"/>
                        <a:pt x="11" y="229"/>
                        <a:pt x="15" y="318"/>
                      </a:cubicBezTo>
                      <a:cubicBezTo>
                        <a:pt x="11" y="362"/>
                        <a:pt x="9" y="406"/>
                        <a:pt x="6" y="450"/>
                      </a:cubicBezTo>
                      <a:cubicBezTo>
                        <a:pt x="17" y="557"/>
                        <a:pt x="11" y="674"/>
                        <a:pt x="15" y="783"/>
                      </a:cubicBezTo>
                      <a:cubicBezTo>
                        <a:pt x="12" y="873"/>
                        <a:pt x="13" y="963"/>
                        <a:pt x="6" y="1053"/>
                      </a:cubicBezTo>
                      <a:cubicBezTo>
                        <a:pt x="16" y="1130"/>
                        <a:pt x="12" y="1197"/>
                        <a:pt x="9" y="1278"/>
                      </a:cubicBezTo>
                      <a:cubicBezTo>
                        <a:pt x="8" y="1303"/>
                        <a:pt x="3" y="1353"/>
                        <a:pt x="3" y="1353"/>
                      </a:cubicBezTo>
                      <a:cubicBezTo>
                        <a:pt x="6" y="1408"/>
                        <a:pt x="6" y="1425"/>
                        <a:pt x="6" y="1404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980440" y="5897160"/>
                  <a:ext cx="298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1197000" y="1803600"/>
                  <a:ext cx="6247800" cy="4091400"/>
                  <a:chOff x="1197000" y="1803600"/>
                  <a:chExt cx="6247800" cy="409140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1197000" y="1803600"/>
                    <a:ext cx="0" cy="409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197000" y="5895000"/>
                    <a:ext cx="6247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" name=""/>
                <p:cNvSpPr/>
                <p:nvPr/>
              </p:nvSpPr>
              <p:spPr>
                <a:xfrm>
                  <a:off x="7444800" y="5720040"/>
                  <a:ext cx="169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1622520" y="1803240"/>
                  <a:ext cx="4686120" cy="3735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622520" y="1625760"/>
                  <a:ext cx="4970520" cy="3913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733440" y="5361480"/>
                  <a:ext cx="22788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449040" y="1625760"/>
                  <a:ext cx="20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710240" y="5897160"/>
                  <a:ext cx="287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6120" y="2513880"/>
                  <a:ext cx="5814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Pr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Flo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85760" y="2871000"/>
                  <a:ext cx="581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98240" y="2871000"/>
                  <a:ext cx="0" cy="302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933800" y="2871000"/>
                  <a:ext cx="0" cy="302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2343240" y="3582360"/>
                <a:ext cx="1100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2-02T22:08:27Z</dcterms:modified>
  <cp:revision>15</cp:revision>
  <dc:subject/>
  <dc:title>Supply &amp; Demand</dc:title>
</cp:coreProperties>
</file>