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895-A05A-41D8-9CCB-59DAFA8C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: 2 uses for strate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about f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toward compet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 still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 law not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xon-Mobil document production 125 million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, Europe is passing pro-cartel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law is created by courts, not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ntract/combination in restraint of trade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ny contract leg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kham: intent to decrease Q il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of reason as opposed to per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Can’t tell if you have co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ax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onopoly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competitiv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no vi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misunderstanding of micro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poly power in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attempt to extend this power to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ding capacity ruling proble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atisfied with Sherman act enforcement, Congress passed new law, created new agency (F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ing – buy one good to obtain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tying – buyer agrees to buy all its needs from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dealing – buyer agrees to deal only with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sive territories – buyer agrees to operate only in one region to gain access to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M – buyer agrees to minimum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y pricing – pricing below cost to eliminate a compet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distributors settled, 42+ states on 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dealing with SPAM and click to unsub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 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n ski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ion: Walmart, 3 pharmaceutical prices less than cost, defense was it was a mistake, natural with 10,000 products, jury found Walmart guilty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in DOJ v American Air makes predation more difficult to 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17A-9622-4906-955D-8BDC2EA2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D93-A2B6-45B7-A673-579F383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9E1-2D2E-458E-A31A-DDA85FCD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583-8D8B-4787-80C4-A0F344A4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F1EE-472F-446D-8BB6-74CF5448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1176-4179-41BB-AC32-BEB7FB8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7FAB-6E75-47B0-8709-8A3EDE0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588F-2EAF-4E8B-AC38-905C536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2A70-6509-42ED-8B49-C288423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C4DB-2E53-4F4D-87B3-5690659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148E-0648-4CC1-A038-FEE921B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A9C-6516-426D-B1B6-BEFEE28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D60-3504-4DA1-B949-BA6F350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8BFC-335A-47AE-9A83-07B16DF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0EDE-8601-4383-9B9A-2EDF152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388-2B2F-43F4-8D3E-F6F8CF61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28C-37A4-4515-9953-DA2140E3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A16-93F9-4284-BFB5-6018EA8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815-B49C-4822-87BD-D2D2F60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A87-DF4A-4606-9F26-463795B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E2F-48D0-4368-ADDB-12409680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708-1C2B-46DE-86FC-163C534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33C-E031-4023-B771-5F9B570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B0D-846A-410C-BC6C-F3A0587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A25-31DD-4DC4-9925-5456BF6583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574B-DB0F-4663-9D99-D3BDBECE58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t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set of products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graphic mar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a hypothetical monopolist over a geographic area find it profitable to raise price by a SSNI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SNIP =  small but significant and nontransitory increase in pr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% for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sessing 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rschmann-Herfindahl Index (HHI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e sum of the squared market sha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lt;1000, unconcentrated, no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000-1800, moderate, some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gt;1800, concentrated, concer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aries with industry characteristics, history of collusion, profit margi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Merg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ising rival’s co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reclosur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crosoft’s proposed merger of Intu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OS to eliminate rivals to Quick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ime Warner/TBS (owns CN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TC required equal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rman Act (189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empt to monopoliz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piracy to restraint trade illeg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ndard Oil broken into 33 compan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es and imprisonment for viol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le of Reas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 you have a pro-competitive reas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o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wo part t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have monopoly power in a marke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d firm engage in illegal activity to extend or maintain that pow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gal to obtain monopoly through “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a superior product, business acumen or historic acciden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iolated law b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acts prohibiting utilities from selling power to rival smel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-fixing with foreign produc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ing price of ingot to sheet fabric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anding capacity to eliminate riv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 created competitors Reynolds, Kaiser using WWII as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ayton Act (191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ds detail to Sher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criminal penal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ble dam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2 (Robinson Patman) prohibits price discrimination which lessens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rton salt volume discounts illegal (194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tion 7 bans mergers that lessen competi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ction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bids exclusionary tactics that lessen competition, including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ying (must buy one good to get anoth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ments Tying (buyer agrees to buy all its needs from the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Dealing (buyer agrees to deal only with sell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xclusive Territories (Buyer agrees to operate only in specified reg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ale Price Maintenance (Buyer agrees to a minimum resale pri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edatory Pricing (pricing below cost to eliminate a competit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TC 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rmits FTC commissioners to prevent unfair and deceptive practi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ission is quasi-judici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s restraining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izza, oil treatments, and shak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to de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ccess to an essential facility denied, firm cannot compete and competition har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d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ce below MC, AV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recoup lost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ertical Restraints, Cont’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ce sold, good cannot be further constrain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ors east of Mississip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rcedes car p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ale Price Mainten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ying purchase of one good to use or non-use of another in order to lessen competition is illeg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ying Kodak film to Kodak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ry 3M equipment, can’t carry riv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14:28:38Z</dcterms:created>
  <dc:creator>Randolph P McAfee</dc:creator>
  <dc:description/>
  <dc:language>en-US</dc:language>
  <cp:lastModifiedBy>Randolph P McAfee</cp:lastModifiedBy>
  <dcterms:modified xsi:type="dcterms:W3CDTF">2004-09-02T20:56:43Z</dcterms:modified>
  <cp:revision>18</cp:revision>
  <dc:subject/>
  <dc:title>Antitrust</dc:title>
</cp:coreProperties>
</file>