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C5537D-4682-4778-BC4E-FB962DA282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assumption is price-taking 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can’t affect the prices they pay?  Ask for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decreasing as pass by max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y from second order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ve the same result – that labor falls as w increases – without calc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rite to ob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denominator is negative from S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al of pi with respect to L is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C is decreasing if and only if there is a scale ec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i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s take inputs and produce outp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business units may have substantial aut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s have production functions or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 we’ll employ views firm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477B-4D3F-40B1-B1A4-E79229004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D9A9-9044-409E-8951-7374AFCE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9011-FD87-48EE-B9A2-0B09CCFE8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3998-3FCA-4240-9087-9EED63D35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0DBB-F820-41FC-B61D-2C4AB62A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C4A7-CB58-4C9B-B66F-740CFD66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A817-744E-4F39-8AFE-3641C9F0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B2DD-765C-4400-8573-E3565256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DDCD-08DC-4D04-A479-ECEDCD51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FAE1-7078-4289-A6EF-B84E4744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C317-D2D5-495E-BC1A-9FAED492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4654-A096-44A7-B849-AB4CFB8F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C956-780A-4E29-8F34-B3B1EA43E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fect 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exercise 2.6.1.2 (Alarm &amp; Tint, Inc.) was ambiguous: takes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urs for the company to do A instal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ical Dep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-253800" y="340200"/>
            <a:ext cx="8974080" cy="8997120"/>
            <a:chOff x="-253800" y="340200"/>
            <a:chExt cx="8974080" cy="8997120"/>
          </a:xfrm>
        </p:grpSpPr>
        <p:sp>
          <p:nvSpPr>
            <p:cNvPr id="85" name=""/>
            <p:cNvSpPr/>
            <p:nvPr/>
          </p:nvSpPr>
          <p:spPr>
            <a:xfrm>
              <a:off x="3809880" y="1782720"/>
              <a:ext cx="0" cy="4130640"/>
            </a:xfrm>
            <a:prstGeom prst="line">
              <a:avLst/>
            </a:prstGeom>
            <a:ln w="9360">
              <a:solidFill>
                <a:srgbClr val="96969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671640" y="6100920"/>
              <a:ext cx="83016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-253800" y="340200"/>
              <a:ext cx="8974080" cy="8997120"/>
              <a:chOff x="-253800" y="340200"/>
              <a:chExt cx="8974080" cy="8997120"/>
            </a:xfrm>
          </p:grpSpPr>
          <p:grpSp>
            <p:nvGrpSpPr>
              <p:cNvPr id="88" name=""/>
              <p:cNvGrpSpPr/>
              <p:nvPr/>
            </p:nvGrpSpPr>
            <p:grpSpPr>
              <a:xfrm>
                <a:off x="-253800" y="340200"/>
                <a:ext cx="8974080" cy="8997120"/>
                <a:chOff x="-253800" y="340200"/>
                <a:chExt cx="8974080" cy="8997120"/>
              </a:xfrm>
            </p:grpSpPr>
            <p:grpSp>
              <p:nvGrpSpPr>
                <p:cNvPr id="89" name=""/>
                <p:cNvGrpSpPr/>
                <p:nvPr/>
              </p:nvGrpSpPr>
              <p:grpSpPr>
                <a:xfrm>
                  <a:off x="762120" y="1406520"/>
                  <a:ext cx="6095520" cy="4883040"/>
                  <a:chOff x="762120" y="1406520"/>
                  <a:chExt cx="6095520" cy="4883040"/>
                </a:xfrm>
              </p:grpSpPr>
              <p:grpSp>
                <p:nvGrpSpPr>
                  <p:cNvPr id="90" name=""/>
                  <p:cNvGrpSpPr/>
                  <p:nvPr/>
                </p:nvGrpSpPr>
                <p:grpSpPr>
                  <a:xfrm>
                    <a:off x="1039680" y="1782720"/>
                    <a:ext cx="4986000" cy="4130640"/>
                    <a:chOff x="1039680" y="1782720"/>
                    <a:chExt cx="4986000" cy="4130640"/>
                  </a:xfrm>
                </p:grpSpPr>
                <p:sp>
                  <p:nvSpPr>
                    <p:cNvPr id="91" name=""/>
                    <p:cNvSpPr/>
                    <p:nvPr/>
                  </p:nvSpPr>
                  <p:spPr>
                    <a:xfrm>
                      <a:off x="1039680" y="1782720"/>
                      <a:ext cx="0" cy="4130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1039680" y="5913360"/>
                      <a:ext cx="4986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3" name=""/>
                  <p:cNvSpPr/>
                  <p:nvPr/>
                </p:nvSpPr>
                <p:spPr>
                  <a:xfrm>
                    <a:off x="6303960" y="5726160"/>
                    <a:ext cx="55368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62120" y="1406520"/>
                    <a:ext cx="55368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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-253800" y="340200"/>
                  <a:ext cx="8974080" cy="8997120"/>
                  <a:chOff x="-253800" y="340200"/>
                  <a:chExt cx="8974080" cy="8997120"/>
                </a:xfrm>
              </p:grpSpPr>
              <p:grpSp>
                <p:nvGrpSpPr>
                  <p:cNvPr id="96" name=""/>
                  <p:cNvGrpSpPr/>
                  <p:nvPr/>
                </p:nvGrpSpPr>
                <p:grpSpPr>
                  <a:xfrm>
                    <a:off x="-253800" y="340200"/>
                    <a:ext cx="8974080" cy="8997120"/>
                    <a:chOff x="-253800" y="340200"/>
                    <a:chExt cx="8974080" cy="8997120"/>
                  </a:xfrm>
                </p:grpSpPr>
                <p:grpSp>
                  <p:nvGrpSpPr>
                    <p:cNvPr id="97" name=""/>
                    <p:cNvGrpSpPr/>
                    <p:nvPr/>
                  </p:nvGrpSpPr>
                  <p:grpSpPr>
                    <a:xfrm>
                      <a:off x="-253800" y="340200"/>
                      <a:ext cx="8974080" cy="8997120"/>
                      <a:chOff x="-253800" y="340200"/>
                      <a:chExt cx="8974080" cy="8997120"/>
                    </a:xfrm>
                  </p:grpSpPr>
                  <p:sp>
                    <p:nvSpPr>
                      <p:cNvPr id="98" name=""/>
                      <p:cNvSpPr/>
                      <p:nvPr/>
                    </p:nvSpPr>
                    <p:spPr>
                      <a:xfrm rot="19027800">
                        <a:off x="1162440" y="1550880"/>
                        <a:ext cx="6141240" cy="657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7280" y="590"/>
                            </a:moveTo>
                            <a:arcTo wR="10800" hR="10800" stAng="-6541199" swAng="7065741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7280" y="590"/>
                            </a:moveTo>
                            <a:arcTo wR="10800" hR="10800" stAng="-6541199" swAng="7065741"/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9" name=""/>
                      <p:cNvSpPr/>
                      <p:nvPr/>
                    </p:nvSpPr>
                    <p:spPr>
                      <a:xfrm flipV="1">
                        <a:off x="1523880" y="1676520"/>
                        <a:ext cx="1523520" cy="9381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00" name=""/>
                    <p:cNvSpPr/>
                    <p:nvPr/>
                  </p:nvSpPr>
                  <p:spPr>
                    <a:xfrm flipH="1">
                      <a:off x="2591640" y="1617840"/>
                      <a:ext cx="24951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1" name=""/>
                  <p:cNvSpPr/>
                  <p:nvPr/>
                </p:nvSpPr>
                <p:spPr>
                  <a:xfrm flipH="1" flipV="1">
                    <a:off x="4647600" y="1544400"/>
                    <a:ext cx="2217600" cy="1127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" name=""/>
                <p:cNvSpPr/>
                <p:nvPr/>
              </p:nvSpPr>
              <p:spPr>
                <a:xfrm>
                  <a:off x="1039680" y="3097080"/>
                  <a:ext cx="2077560" cy="13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Slope positive to left of maximum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840040" y="1969920"/>
                  <a:ext cx="2077560" cy="13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Slope zero at maximum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4363920" y="2720880"/>
                  <a:ext cx="2077560" cy="13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Slope negative to right of maximum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"/>
              <p:cNvSpPr/>
              <p:nvPr/>
            </p:nvSpPr>
            <p:spPr>
              <a:xfrm flipH="1" flipV="1">
                <a:off x="2286000" y="2157480"/>
                <a:ext cx="137520" cy="93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>
                <a:off x="3531960" y="1782360"/>
                <a:ext cx="277560" cy="37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4779720" y="2157120"/>
                <a:ext cx="553680" cy="56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rt-run Effect of a Wage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57200" y="1523880"/>
                <a:ext cx="510552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p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∂</m:t>
                        </m:r>
                        <m:r>
                          <m:t xml:space="preserve">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L</m:t>
                    </m:r>
                    <m:sSup>
                      <m:e/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09480" y="2895480"/>
                <a:ext cx="579132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sSup>
                      <m:e/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∂</m:t>
                            </m:r>
                            <m:r>
                              <m:t xml:space="preserve">L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ide: Revealed P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aled preference is a powerful technique to prove comparative st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out assumptions about continuity or different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&lt;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are two wage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trepreneur choos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when the wage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an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when the wage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ealed Preference 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er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wage =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er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wage =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thes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33520" y="2286000"/>
                <a:ext cx="67053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K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K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33520" y="3429000"/>
                <a:ext cx="67816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K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K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33520" y="4572000"/>
                <a:ext cx="79246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K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K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1800" y="31615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33520" y="5257800"/>
                <a:ext cx="77724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K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K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720" y="36558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ealed Preference, Cont’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cel terms to ob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aled preference shows that profit maximization impli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alls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i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838080" y="2133720"/>
                <a:ext cx="518184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762120" y="3429000"/>
                <a:ext cx="39621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ative Sta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ises i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complements, and falls if substit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33520" y="2209680"/>
                <a:ext cx="5029200" cy="254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sSup>
                      <m:e/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K</m:t>
                            </m:r>
                            <m:r>
                              <m:t xml:space="preserve">∂</m:t>
                            </m:r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∂</m:t>
                            </m:r>
                            <m:r>
                              <m:t xml:space="preserve">L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s use has reduced demand for secretarial services (substit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technology generally has increased demand for high-skill workers (complem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 often substitutes for simple labor (tractors, water pipes) and complements skilled labor (operating machi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[T]here's a lot of debate on this subject‑‑‑about what kind of car handles best.  Some say a front‑engined car; some say a rear‑engined car.  I say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n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r.  Nothing handles better than a rented car.  You can go faster, turn corners sharper, and put the transmission into reverse while going forward at a higher rate of speed in a rented car than in any other kind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‑‑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J. O'Rourke, Republican Party Reptile, Atlantic Monthly Press, 1987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 Assign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picked up outside Baxter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dow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aints can be translated into p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al value of relaxing a constraint is known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hadow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al cost of fixed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negative if too much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31800" y="3903840"/>
                <a:ext cx="780264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π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p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∗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firm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ces when prices are exogen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 maximization constrained by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input dem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ative st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s about individual firm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gregate to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dyna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 Min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 maximization requires minimizing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minimization for fixed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(y) = M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bject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590920" y="5029200"/>
                <a:ext cx="22096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 Minimization,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 maximiz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s.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giv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is is equivalent to minimizing c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minimization equ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5257800" y="2133720"/>
                <a:ext cx="220968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914400" y="4648320"/>
                <a:ext cx="533412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  <m:r>
                          <m:t xml:space="preserve">∂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 Min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85800" y="-971280"/>
            <a:ext cx="13393440" cy="7295400"/>
            <a:chOff x="685800" y="-971280"/>
            <a:chExt cx="13393440" cy="7295400"/>
          </a:xfrm>
        </p:grpSpPr>
        <p:grpSp>
          <p:nvGrpSpPr>
            <p:cNvPr id="155" name=""/>
            <p:cNvGrpSpPr/>
            <p:nvPr/>
          </p:nvGrpSpPr>
          <p:grpSpPr>
            <a:xfrm>
              <a:off x="685800" y="-971280"/>
              <a:ext cx="13393440" cy="7295400"/>
              <a:chOff x="685800" y="-971280"/>
              <a:chExt cx="13393440" cy="729540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685800" y="-971280"/>
                <a:ext cx="13393440" cy="7295400"/>
                <a:chOff x="685800" y="-971280"/>
                <a:chExt cx="13393440" cy="7295400"/>
              </a:xfrm>
            </p:grpSpPr>
            <p:grpSp>
              <p:nvGrpSpPr>
                <p:cNvPr id="157" name=""/>
                <p:cNvGrpSpPr/>
                <p:nvPr/>
              </p:nvGrpSpPr>
              <p:grpSpPr>
                <a:xfrm>
                  <a:off x="685800" y="1600200"/>
                  <a:ext cx="7848360" cy="4723920"/>
                  <a:chOff x="685800" y="1600200"/>
                  <a:chExt cx="7848360" cy="472392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>
                    <a:off x="856080" y="1914840"/>
                    <a:ext cx="0" cy="4251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856080" y="6166800"/>
                    <a:ext cx="682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7851600" y="6009480"/>
                    <a:ext cx="682560" cy="314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685800" y="1600200"/>
                    <a:ext cx="682560" cy="314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K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856080" y="-971280"/>
                  <a:ext cx="13223160" cy="7138080"/>
                  <a:chOff x="856080" y="-971280"/>
                  <a:chExt cx="13223160" cy="7138080"/>
                </a:xfrm>
              </p:grpSpPr>
              <p:grpSp>
                <p:nvGrpSpPr>
                  <p:cNvPr id="163" name=""/>
                  <p:cNvGrpSpPr/>
                  <p:nvPr/>
                </p:nvGrpSpPr>
                <p:grpSpPr>
                  <a:xfrm>
                    <a:off x="1794600" y="-971280"/>
                    <a:ext cx="12284640" cy="6765480"/>
                    <a:chOff x="1794600" y="-971280"/>
                    <a:chExt cx="12284640" cy="6765480"/>
                  </a:xfrm>
                </p:grpSpPr>
                <p:sp>
                  <p:nvSpPr>
                    <p:cNvPr id="164" name=""/>
                    <p:cNvSpPr/>
                    <p:nvPr/>
                  </p:nvSpPr>
                  <p:spPr>
                    <a:xfrm rot="11006400">
                      <a:off x="1965240" y="-618480"/>
                      <a:ext cx="11942640" cy="605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7821360" y="5220720"/>
                      <a:ext cx="682560" cy="315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6" name=""/>
                  <p:cNvSpPr/>
                  <p:nvPr/>
                </p:nvSpPr>
                <p:spPr>
                  <a:xfrm>
                    <a:off x="856080" y="4434480"/>
                    <a:ext cx="1876680" cy="17319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856080" y="3174840"/>
                    <a:ext cx="3241440" cy="29919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856080" y="2072520"/>
                    <a:ext cx="4606920" cy="4094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2562120" y="2072520"/>
                    <a:ext cx="4777200" cy="4094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0" name=""/>
              <p:cNvSpPr/>
              <p:nvPr/>
            </p:nvSpPr>
            <p:spPr>
              <a:xfrm>
                <a:off x="2562480" y="3647160"/>
                <a:ext cx="340920" cy="157320"/>
              </a:xfrm>
              <a:prstGeom prst="star5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1294920" y="2057400"/>
              <a:ext cx="7086960" cy="3309480"/>
              <a:chOff x="1294920" y="2057400"/>
              <a:chExt cx="7086960" cy="3309480"/>
            </a:xfrm>
          </p:grpSpPr>
          <p:sp>
            <p:nvSpPr>
              <p:cNvPr id="172" name=""/>
              <p:cNvSpPr/>
              <p:nvPr/>
            </p:nvSpPr>
            <p:spPr>
              <a:xfrm>
                <a:off x="3429000" y="2057400"/>
                <a:ext cx="1828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socos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3" name=""/>
              <p:cNvGrpSpPr/>
              <p:nvPr/>
            </p:nvGrpSpPr>
            <p:grpSpPr>
              <a:xfrm>
                <a:off x="1294920" y="2133720"/>
                <a:ext cx="2210040" cy="1371600"/>
                <a:chOff x="1294920" y="2133720"/>
                <a:chExt cx="2210040" cy="1371600"/>
              </a:xfrm>
            </p:grpSpPr>
            <p:sp>
              <p:nvSpPr>
                <p:cNvPr id="174" name=""/>
                <p:cNvSpPr/>
                <p:nvPr/>
              </p:nvSpPr>
              <p:spPr>
                <a:xfrm flipH="1">
                  <a:off x="2819160" y="2133720"/>
                  <a:ext cx="6094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H="1">
                  <a:off x="1294920" y="2133720"/>
                  <a:ext cx="2210040" cy="1371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"/>
              <p:cNvSpPr/>
              <p:nvPr/>
            </p:nvSpPr>
            <p:spPr>
              <a:xfrm>
                <a:off x="6934320" y="4724280"/>
                <a:ext cx="1447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soquant f(K,L)=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-run Co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-run total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 varies, K does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-run marginal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ivative of cost with respect to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-run average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over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nite at zero, due to fixed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-run average variable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over output, omits fixed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-run co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-run average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if diseconomy of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ing if economy of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economy if, f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1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33520" y="3809880"/>
                <a:ext cx="647676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λ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λ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λ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λ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0" y="284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03280" y="4648320"/>
                <a:ext cx="576756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VC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λ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λ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t xml:space="preserve">λ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λ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λ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1800" y="3291840"/>
            <a:ext cx="118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590920" y="5486400"/>
                <a:ext cx="435924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λ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λ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λ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VC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ide: Distribution of Profit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th Constant Returns to Sc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09480" y="1752480"/>
                <a:ext cx="74678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dλ</m:t>
                        </m:r>
                      </m:den>
                    </m:f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λ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λ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λ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λ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04920" y="2743200"/>
                <a:ext cx="830556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λ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lim>
                    </m:limLow>
                    <m:r>
                      <m:t xml:space="preserve"> 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λ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λ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λ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373356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, paying inputs their marginal product uses up the output exactly under constant returns to sc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s efficient decentralization of firm using p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ribution of Profits with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creasing Returns to Sc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609480" y="1752480"/>
                <a:ext cx="74678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dλ</m:t>
                        </m:r>
                      </m:den>
                    </m:f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λ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λ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λ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λ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4495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ing inputs their marginal product uses is not generally fea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centralization of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80880" y="2743200"/>
                <a:ext cx="82296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λ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lim>
                    </m:limLow>
                    <m:r>
                      <m:t xml:space="preserve"> 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λ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λ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λ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m Co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88920" y="-1878120"/>
            <a:ext cx="7775280" cy="8158320"/>
            <a:chOff x="88920" y="-1878120"/>
            <a:chExt cx="7775280" cy="8158320"/>
          </a:xfrm>
        </p:grpSpPr>
        <p:grpSp>
          <p:nvGrpSpPr>
            <p:cNvPr id="203" name=""/>
            <p:cNvGrpSpPr/>
            <p:nvPr/>
          </p:nvGrpSpPr>
          <p:grpSpPr>
            <a:xfrm>
              <a:off x="88920" y="-1878120"/>
              <a:ext cx="7340400" cy="7387920"/>
              <a:chOff x="88920" y="-1878120"/>
              <a:chExt cx="7340400" cy="7387920"/>
            </a:xfrm>
          </p:grpSpPr>
          <p:sp>
            <p:nvSpPr>
              <p:cNvPr id="204" name=""/>
              <p:cNvSpPr/>
              <p:nvPr/>
            </p:nvSpPr>
            <p:spPr>
              <a:xfrm rot="8386200">
                <a:off x="824040" y="275760"/>
                <a:ext cx="4995360" cy="410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158120" y="2550600"/>
                <a:ext cx="3372480" cy="2908800"/>
              </a:xfrm>
              <a:custGeom>
                <a:avLst/>
                <a:gdLst/>
                <a:ahLst/>
                <a:rect l="l" t="t" r="r" b="b"/>
                <a:pathLst>
                  <a:path w="3240" h="3060">
                    <a:moveTo>
                      <a:pt x="0" y="3060"/>
                    </a:moveTo>
                    <a:cubicBezTo>
                      <a:pt x="570" y="2865"/>
                      <a:pt x="1140" y="2670"/>
                      <a:pt x="1680" y="2160"/>
                    </a:cubicBezTo>
                    <a:cubicBezTo>
                      <a:pt x="2220" y="1650"/>
                      <a:pt x="2980" y="360"/>
                      <a:pt x="324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8386200">
                <a:off x="1698480" y="-750240"/>
                <a:ext cx="4995360" cy="410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530960" y="2209320"/>
                <a:ext cx="706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RM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655240" y="2721600"/>
                <a:ext cx="6652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RA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780800" y="3747240"/>
                <a:ext cx="849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RAV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532440" y="1523880"/>
              <a:ext cx="6499080" cy="4756320"/>
              <a:chOff x="532440" y="1523880"/>
              <a:chExt cx="6499080" cy="4756320"/>
            </a:xfrm>
          </p:grpSpPr>
          <p:grpSp>
            <p:nvGrpSpPr>
              <p:cNvPr id="211" name=""/>
              <p:cNvGrpSpPr/>
              <p:nvPr/>
            </p:nvGrpSpPr>
            <p:grpSpPr>
              <a:xfrm>
                <a:off x="783360" y="1523880"/>
                <a:ext cx="5996520" cy="4620240"/>
                <a:chOff x="783360" y="1523880"/>
                <a:chExt cx="5996520" cy="46202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783360" y="1523880"/>
                  <a:ext cx="0" cy="4620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83360" y="6144120"/>
                  <a:ext cx="5996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6902640" y="597492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32440" y="152388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7029720" y="3225600"/>
              <a:ext cx="834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RAT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08280" y="2712240"/>
              <a:ext cx="6620760" cy="912600"/>
            </a:xfrm>
            <a:custGeom>
              <a:avLst/>
              <a:gdLst/>
              <a:ahLst/>
              <a:rect l="l" t="t" r="r" b="b"/>
              <a:pathLst>
                <a:path w="6360" h="960">
                  <a:moveTo>
                    <a:pt x="0" y="0"/>
                  </a:moveTo>
                  <a:cubicBezTo>
                    <a:pt x="850" y="420"/>
                    <a:pt x="1700" y="840"/>
                    <a:pt x="2760" y="900"/>
                  </a:cubicBezTo>
                  <a:cubicBezTo>
                    <a:pt x="3820" y="960"/>
                    <a:pt x="5760" y="450"/>
                    <a:pt x="6360" y="36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 AC implies MC=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457200" y="1905120"/>
                <a:ext cx="788508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⇒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ut 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m shuts down when price &lt; average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m shuts down in short run when price &lt; short run average cost = min average variable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m exits in long run when price &lt; long run average cost = min average total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Fi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rietorship, e.g. family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hip, e.g. law, accounting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liability by shar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l “pers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d by agents of shar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profit corp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certain activities achieve tax-free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m Reaction to Price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34680" y="-2462760"/>
            <a:ext cx="8165880" cy="8519400"/>
            <a:chOff x="634680" y="-2462760"/>
            <a:chExt cx="8165880" cy="8519400"/>
          </a:xfrm>
        </p:grpSpPr>
        <p:grpSp>
          <p:nvGrpSpPr>
            <p:cNvPr id="225" name=""/>
            <p:cNvGrpSpPr/>
            <p:nvPr/>
          </p:nvGrpSpPr>
          <p:grpSpPr>
            <a:xfrm>
              <a:off x="634680" y="-2462760"/>
              <a:ext cx="8165880" cy="8519400"/>
              <a:chOff x="634680" y="-2462760"/>
              <a:chExt cx="8165880" cy="8519400"/>
            </a:xfrm>
          </p:grpSpPr>
          <p:sp>
            <p:nvSpPr>
              <p:cNvPr id="226" name=""/>
              <p:cNvSpPr/>
              <p:nvPr/>
            </p:nvSpPr>
            <p:spPr>
              <a:xfrm flipH="1">
                <a:off x="1057680" y="4403160"/>
                <a:ext cx="25160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7" name=""/>
              <p:cNvGrpSpPr/>
              <p:nvPr/>
            </p:nvGrpSpPr>
            <p:grpSpPr>
              <a:xfrm>
                <a:off x="634680" y="-2462760"/>
                <a:ext cx="8165880" cy="8519400"/>
                <a:chOff x="634680" y="-2462760"/>
                <a:chExt cx="8165880" cy="8519400"/>
              </a:xfrm>
            </p:grpSpPr>
            <p:grpSp>
              <p:nvGrpSpPr>
                <p:cNvPr id="228" name=""/>
                <p:cNvGrpSpPr/>
                <p:nvPr/>
              </p:nvGrpSpPr>
              <p:grpSpPr>
                <a:xfrm>
                  <a:off x="634680" y="-2462760"/>
                  <a:ext cx="8165880" cy="7918920"/>
                  <a:chOff x="634680" y="-2462760"/>
                  <a:chExt cx="8165880" cy="791892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 rot="8386200">
                    <a:off x="1239480" y="-18720"/>
                    <a:ext cx="5919840" cy="4041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1502280" y="2381760"/>
                    <a:ext cx="3996720" cy="2863080"/>
                  </a:xfrm>
                  <a:custGeom>
                    <a:avLst/>
                    <a:gdLst/>
                    <a:ahLst/>
                    <a:rect l="l" t="t" r="r" b="b"/>
                    <a:pathLst>
                      <a:path w="3240" h="3060">
                        <a:moveTo>
                          <a:pt x="0" y="3060"/>
                        </a:moveTo>
                        <a:cubicBezTo>
                          <a:pt x="570" y="2865"/>
                          <a:pt x="1140" y="2670"/>
                          <a:pt x="1680" y="2160"/>
                        </a:cubicBezTo>
                        <a:cubicBezTo>
                          <a:pt x="2220" y="1650"/>
                          <a:pt x="2980" y="360"/>
                          <a:pt x="3240" y="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rot="8386200">
                    <a:off x="2275560" y="-1028880"/>
                    <a:ext cx="5919840" cy="4041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5497200" y="2044800"/>
                    <a:ext cx="39528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C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6832440" y="2549160"/>
                    <a:ext cx="50976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TC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5793840" y="3562560"/>
                    <a:ext cx="53856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VC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761040" y="1371600"/>
                  <a:ext cx="7677360" cy="4685040"/>
                  <a:chOff x="761040" y="1371600"/>
                  <a:chExt cx="7677360" cy="4685040"/>
                </a:xfrm>
              </p:grpSpPr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1058040" y="1371600"/>
                    <a:ext cx="7105680" cy="4547160"/>
                    <a:chOff x="1058040" y="1371600"/>
                    <a:chExt cx="7105680" cy="454716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058040" y="1371600"/>
                      <a:ext cx="0" cy="45471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1058040" y="5918760"/>
                      <a:ext cx="71056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8309520" y="5751360"/>
                    <a:ext cx="12888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q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761040" y="1371600"/>
                    <a:ext cx="12888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1502280" y="2382120"/>
                  <a:ext cx="3997080" cy="3254040"/>
                  <a:chOff x="1502280" y="2382120"/>
                  <a:chExt cx="3997080" cy="325404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>
                    <a:off x="1502280" y="2382120"/>
                    <a:ext cx="3997080" cy="2862720"/>
                  </a:xfrm>
                  <a:custGeom>
                    <a:avLst/>
                    <a:gdLst/>
                    <a:ahLst/>
                    <a:rect l="l" t="t" r="r" b="b"/>
                    <a:pathLst>
                      <a:path w="3240" h="3060">
                        <a:moveTo>
                          <a:pt x="0" y="3060"/>
                        </a:moveTo>
                        <a:cubicBezTo>
                          <a:pt x="570" y="2865"/>
                          <a:pt x="1140" y="2670"/>
                          <a:pt x="1680" y="2160"/>
                        </a:cubicBezTo>
                        <a:cubicBezTo>
                          <a:pt x="2220" y="1650"/>
                          <a:pt x="2980" y="360"/>
                          <a:pt x="3240" y="0"/>
                        </a:cubicBezTo>
                      </a:path>
                    </a:pathLst>
                  </a:custGeom>
                  <a:noFill/>
                  <a:ln w="507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1502280" y="4457160"/>
                    <a:ext cx="2812320" cy="1179000"/>
                  </a:xfrm>
                  <a:prstGeom prst="rect">
                    <a:avLst/>
                  </a:prstGeom>
                  <a:solidFill>
                    <a:srgbClr val="ffffff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44" name=""/>
            <p:cNvSpPr/>
            <p:nvPr/>
          </p:nvSpPr>
          <p:spPr>
            <a:xfrm flipH="1">
              <a:off x="1447560" y="2514600"/>
              <a:ext cx="6094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57400" y="2514600"/>
              <a:ext cx="2971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600200" y="190512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hort run supp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-run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80880" y="1447920"/>
            <a:ext cx="8243280" cy="4952520"/>
            <a:chOff x="380880" y="1447920"/>
            <a:chExt cx="8243280" cy="4952520"/>
          </a:xfrm>
        </p:grpSpPr>
        <p:sp>
          <p:nvSpPr>
            <p:cNvPr id="249" name=""/>
            <p:cNvSpPr/>
            <p:nvPr/>
          </p:nvSpPr>
          <p:spPr>
            <a:xfrm>
              <a:off x="4662720" y="3086640"/>
              <a:ext cx="0" cy="28166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36720" y="6069240"/>
              <a:ext cx="50364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631800" y="1447920"/>
              <a:ext cx="7992360" cy="4623120"/>
              <a:chOff x="631800" y="1447920"/>
              <a:chExt cx="7992360" cy="462312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31800" y="1456920"/>
                <a:ext cx="6607800" cy="4614120"/>
                <a:chOff x="631800" y="1456920"/>
                <a:chExt cx="6607800" cy="4614120"/>
              </a:xfrm>
            </p:grpSpPr>
            <p:grpSp>
              <p:nvGrpSpPr>
                <p:cNvPr id="253" name=""/>
                <p:cNvGrpSpPr/>
                <p:nvPr/>
              </p:nvGrpSpPr>
              <p:grpSpPr>
                <a:xfrm>
                  <a:off x="884520" y="1456920"/>
                  <a:ext cx="6044760" cy="4473720"/>
                  <a:chOff x="884520" y="1456920"/>
                  <a:chExt cx="6044760" cy="447372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>
                    <a:off x="884520" y="1456920"/>
                    <a:ext cx="0" cy="4473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884520" y="5930640"/>
                    <a:ext cx="6044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"/>
                <p:cNvSpPr/>
                <p:nvPr/>
              </p:nvSpPr>
              <p:spPr>
                <a:xfrm>
                  <a:off x="7054560" y="5765760"/>
                  <a:ext cx="1850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631800" y="145692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8" name=""/>
              <p:cNvSpPr/>
              <p:nvPr/>
            </p:nvSpPr>
            <p:spPr>
              <a:xfrm>
                <a:off x="7180200" y="3105000"/>
                <a:ext cx="14439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RATC=L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010160" y="3105000"/>
                <a:ext cx="6926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151080" y="1447920"/>
                <a:ext cx="3652200" cy="3976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926760" y="5259960"/>
                <a:ext cx="18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1010160" y="1447920"/>
                <a:ext cx="5363280" cy="2650680"/>
                <a:chOff x="1010160" y="1447920"/>
                <a:chExt cx="5363280" cy="2650680"/>
              </a:xfrm>
            </p:grpSpPr>
            <p:grpSp>
              <p:nvGrpSpPr>
                <p:cNvPr id="263" name=""/>
                <p:cNvGrpSpPr/>
                <p:nvPr/>
              </p:nvGrpSpPr>
              <p:grpSpPr>
                <a:xfrm>
                  <a:off x="1010160" y="1613160"/>
                  <a:ext cx="4785120" cy="2485440"/>
                  <a:chOff x="1010160" y="1613160"/>
                  <a:chExt cx="4785120" cy="248544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1010160" y="4098600"/>
                    <a:ext cx="28962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 flipV="1">
                    <a:off x="3906360" y="1613160"/>
                    <a:ext cx="1888920" cy="24850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6" name=""/>
                <p:cNvSpPr/>
                <p:nvPr/>
              </p:nvSpPr>
              <p:spPr>
                <a:xfrm>
                  <a:off x="5920200" y="1447920"/>
                  <a:ext cx="453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SR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7" name=""/>
            <p:cNvSpPr/>
            <p:nvPr/>
          </p:nvSpPr>
          <p:spPr>
            <a:xfrm>
              <a:off x="380880" y="2920680"/>
              <a:ext cx="50328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rease in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80880" y="1523880"/>
            <a:ext cx="8119080" cy="4706280"/>
            <a:chOff x="380880" y="1523880"/>
            <a:chExt cx="8119080" cy="4706280"/>
          </a:xfrm>
        </p:grpSpPr>
        <p:grpSp>
          <p:nvGrpSpPr>
            <p:cNvPr id="270" name=""/>
            <p:cNvGrpSpPr/>
            <p:nvPr/>
          </p:nvGrpSpPr>
          <p:grpSpPr>
            <a:xfrm>
              <a:off x="380880" y="1523880"/>
              <a:ext cx="8119080" cy="4706280"/>
              <a:chOff x="380880" y="1523880"/>
              <a:chExt cx="8119080" cy="470628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380880" y="1523880"/>
                <a:ext cx="8119080" cy="4706280"/>
                <a:chOff x="380880" y="1523880"/>
                <a:chExt cx="8119080" cy="4706280"/>
              </a:xfrm>
            </p:grpSpPr>
            <p:grpSp>
              <p:nvGrpSpPr>
                <p:cNvPr id="272" name=""/>
                <p:cNvGrpSpPr/>
                <p:nvPr/>
              </p:nvGrpSpPr>
              <p:grpSpPr>
                <a:xfrm>
                  <a:off x="380880" y="1523880"/>
                  <a:ext cx="8119080" cy="4647960"/>
                  <a:chOff x="380880" y="1523880"/>
                  <a:chExt cx="8119080" cy="4647960"/>
                </a:xfrm>
              </p:grpSpPr>
              <p:sp>
                <p:nvSpPr>
                  <p:cNvPr id="273" name=""/>
                  <p:cNvSpPr/>
                  <p:nvPr/>
                </p:nvSpPr>
                <p:spPr>
                  <a:xfrm>
                    <a:off x="998640" y="3375360"/>
                    <a:ext cx="67982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4" name=""/>
                  <p:cNvGrpSpPr/>
                  <p:nvPr/>
                </p:nvGrpSpPr>
                <p:grpSpPr>
                  <a:xfrm>
                    <a:off x="380880" y="1968840"/>
                    <a:ext cx="8119080" cy="4203000"/>
                    <a:chOff x="380880" y="1968840"/>
                    <a:chExt cx="8119080" cy="4203000"/>
                  </a:xfrm>
                </p:grpSpPr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4583520" y="3359520"/>
                      <a:ext cx="0" cy="23904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7056000" y="3375000"/>
                      <a:ext cx="144396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RATC=L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77" name=""/>
                    <p:cNvGrpSpPr/>
                    <p:nvPr/>
                  </p:nvGrpSpPr>
                  <p:grpSpPr>
                    <a:xfrm>
                      <a:off x="380880" y="1968840"/>
                      <a:ext cx="6689160" cy="4203000"/>
                      <a:chOff x="380880" y="1968840"/>
                      <a:chExt cx="6689160" cy="4203000"/>
                    </a:xfrm>
                  </p:grpSpPr>
                  <p:sp>
                    <p:nvSpPr>
                      <p:cNvPr id="278" name=""/>
                      <p:cNvSpPr/>
                      <p:nvPr/>
                    </p:nvSpPr>
                    <p:spPr>
                      <a:xfrm>
                        <a:off x="4459680" y="5890680"/>
                        <a:ext cx="493920" cy="281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Q</a:t>
                        </a:r>
                        <a:r>
                          <a:rPr b="0" lang="en-US" sz="2000" spc="-1" strike="noStrike" baseline="-25000">
                            <a:solidFill>
                              <a:srgbClr val="000000"/>
                            </a:solidFill>
                            <a:latin typeface="Times New Roman"/>
                          </a:rPr>
                          <a:t>0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79" name=""/>
                      <p:cNvGrpSpPr/>
                      <p:nvPr/>
                    </p:nvGrpSpPr>
                    <p:grpSpPr>
                      <a:xfrm>
                        <a:off x="627120" y="1976400"/>
                        <a:ext cx="6414120" cy="3840480"/>
                        <a:chOff x="627120" y="1976400"/>
                        <a:chExt cx="6414120" cy="3840480"/>
                      </a:xfrm>
                    </p:grpSpPr>
                    <p:grpSp>
                      <p:nvGrpSpPr>
                        <p:cNvPr id="280" name=""/>
                        <p:cNvGrpSpPr/>
                        <p:nvPr/>
                      </p:nvGrpSpPr>
                      <p:grpSpPr>
                        <a:xfrm>
                          <a:off x="875160" y="1976400"/>
                          <a:ext cx="5932800" cy="3797280"/>
                          <a:chOff x="875160" y="1976400"/>
                          <a:chExt cx="5932800" cy="3797280"/>
                        </a:xfrm>
                      </p:grpSpPr>
                      <p:sp>
                        <p:nvSpPr>
                          <p:cNvPr id="281" name=""/>
                          <p:cNvSpPr/>
                          <p:nvPr/>
                        </p:nvSpPr>
                        <p:spPr>
                          <a:xfrm>
                            <a:off x="875160" y="1976400"/>
                            <a:ext cx="0" cy="3797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2" name=""/>
                          <p:cNvSpPr/>
                          <p:nvPr/>
                        </p:nvSpPr>
                        <p:spPr>
                          <a:xfrm>
                            <a:off x="875160" y="5773680"/>
                            <a:ext cx="5932800" cy="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83" name=""/>
                        <p:cNvSpPr/>
                        <p:nvPr/>
                      </p:nvSpPr>
                      <p:spPr>
                        <a:xfrm>
                          <a:off x="6930720" y="5634000"/>
                          <a:ext cx="110520" cy="1828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0" rIns="0" tIns="0" bIns="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Q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4" name=""/>
                        <p:cNvSpPr/>
                        <p:nvPr/>
                      </p:nvSpPr>
                      <p:spPr>
                        <a:xfrm>
                          <a:off x="627120" y="1976400"/>
                          <a:ext cx="142560" cy="305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0" rIns="0" tIns="0" bIns="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P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85" name=""/>
                      <p:cNvSpPr/>
                      <p:nvPr/>
                    </p:nvSpPr>
                    <p:spPr>
                      <a:xfrm>
                        <a:off x="3099960" y="1968840"/>
                        <a:ext cx="3584520" cy="3375000"/>
                      </a:xfrm>
                      <a:prstGeom prst="line">
                        <a:avLst/>
                      </a:prstGeom>
                      <a:ln w="25560">
                        <a:solidFill>
                          <a:srgbClr val="96969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6" name=""/>
                      <p:cNvSpPr/>
                      <p:nvPr/>
                    </p:nvSpPr>
                    <p:spPr>
                      <a:xfrm>
                        <a:off x="6810480" y="5204160"/>
                        <a:ext cx="259560" cy="347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D</a:t>
                        </a:r>
                        <a:r>
                          <a:rPr b="0" lang="en-US" sz="2000" spc="-1" strike="noStrike" baseline="-25000">
                            <a:solidFill>
                              <a:srgbClr val="000000"/>
                            </a:solidFill>
                            <a:latin typeface="Times New Roman"/>
                          </a:rPr>
                          <a:t>0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87" name=""/>
                      <p:cNvGrpSpPr/>
                      <p:nvPr/>
                    </p:nvGrpSpPr>
                    <p:grpSpPr>
                      <a:xfrm>
                        <a:off x="998640" y="1968840"/>
                        <a:ext cx="5351400" cy="2249640"/>
                        <a:chOff x="998640" y="1968840"/>
                        <a:chExt cx="5351400" cy="2249640"/>
                      </a:xfrm>
                    </p:grpSpPr>
                    <p:grpSp>
                      <p:nvGrpSpPr>
                        <p:cNvPr id="288" name=""/>
                        <p:cNvGrpSpPr/>
                        <p:nvPr/>
                      </p:nvGrpSpPr>
                      <p:grpSpPr>
                        <a:xfrm>
                          <a:off x="998640" y="2108880"/>
                          <a:ext cx="4696200" cy="2109600"/>
                          <a:chOff x="998640" y="2108880"/>
                          <a:chExt cx="4696200" cy="2109600"/>
                        </a:xfrm>
                      </p:grpSpPr>
                      <p:sp>
                        <p:nvSpPr>
                          <p:cNvPr id="289" name=""/>
                          <p:cNvSpPr/>
                          <p:nvPr/>
                        </p:nvSpPr>
                        <p:spPr>
                          <a:xfrm>
                            <a:off x="998640" y="4218480"/>
                            <a:ext cx="2842560" cy="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96969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0" name=""/>
                          <p:cNvSpPr/>
                          <p:nvPr/>
                        </p:nvSpPr>
                        <p:spPr>
                          <a:xfrm flipV="1">
                            <a:off x="3841200" y="2108880"/>
                            <a:ext cx="1853640" cy="210924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96969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91" name=""/>
                        <p:cNvSpPr/>
                        <p:nvPr/>
                      </p:nvSpPr>
                      <p:spPr>
                        <a:xfrm>
                          <a:off x="5822280" y="1968840"/>
                          <a:ext cx="527760" cy="3470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0" rIns="0" tIns="0" bIns="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SRS</a:t>
                          </a:r>
                          <a:r>
                            <a:rPr b="0" lang="en-US" sz="2000" spc="-1" strike="noStrike" baseline="-25000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0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92" name=""/>
                      <p:cNvSpPr/>
                      <p:nvPr/>
                    </p:nvSpPr>
                    <p:spPr>
                      <a:xfrm>
                        <a:off x="380880" y="3218760"/>
                        <a:ext cx="494280" cy="281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P</a:t>
                        </a:r>
                        <a:r>
                          <a:rPr b="0" lang="en-US" sz="2000" spc="-1" strike="noStrike" baseline="-25000">
                            <a:solidFill>
                              <a:srgbClr val="000000"/>
                            </a:solidFill>
                            <a:latin typeface="Times New Roman"/>
                          </a:rPr>
                          <a:t>0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293" name=""/>
                  <p:cNvSpPr/>
                  <p:nvPr/>
                </p:nvSpPr>
                <p:spPr>
                  <a:xfrm>
                    <a:off x="4212720" y="1523880"/>
                    <a:ext cx="3584520" cy="33750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7800120" y="4757760"/>
                    <a:ext cx="259560" cy="347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r>
                      <a:rPr b="0" lang="en-US" sz="20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 flipV="1">
                  <a:off x="4583520" y="2508120"/>
                  <a:ext cx="741600" cy="843840"/>
                </a:xfrm>
                <a:prstGeom prst="line">
                  <a:avLst/>
                </a:prstGeom>
                <a:ln w="76320">
                  <a:solidFill>
                    <a:srgbClr val="969696"/>
                  </a:solidFill>
                  <a:prstDash val="sysDot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H="1">
                  <a:off x="874800" y="2508120"/>
                  <a:ext cx="4449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325120" y="2508120"/>
                  <a:ext cx="0" cy="3234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07960" y="2366640"/>
                  <a:ext cx="217080" cy="34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204160" y="5883120"/>
                  <a:ext cx="259560" cy="34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" name=""/>
              <p:cNvSpPr/>
              <p:nvPr/>
            </p:nvSpPr>
            <p:spPr>
              <a:xfrm>
                <a:off x="5325120" y="2508120"/>
                <a:ext cx="865080" cy="843840"/>
              </a:xfrm>
              <a:prstGeom prst="line">
                <a:avLst/>
              </a:prstGeom>
              <a:ln w="633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90560" y="3351960"/>
                <a:ext cx="0" cy="239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069240" y="5883120"/>
                <a:ext cx="25956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 flipH="1">
              <a:off x="5448960" y="2367360"/>
              <a:ext cx="1730160" cy="182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41920" y="4218480"/>
              <a:ext cx="160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2360" y="2226960"/>
              <a:ext cx="52776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RS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rge Decrease in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304560" y="1676160"/>
            <a:ext cx="8295840" cy="4689000"/>
            <a:chOff x="304560" y="1676160"/>
            <a:chExt cx="8295840" cy="4689000"/>
          </a:xfrm>
        </p:grpSpPr>
        <p:grpSp>
          <p:nvGrpSpPr>
            <p:cNvPr id="308" name=""/>
            <p:cNvGrpSpPr/>
            <p:nvPr/>
          </p:nvGrpSpPr>
          <p:grpSpPr>
            <a:xfrm>
              <a:off x="304560" y="1676160"/>
              <a:ext cx="8295840" cy="4689000"/>
              <a:chOff x="304560" y="1676160"/>
              <a:chExt cx="8295840" cy="4689000"/>
            </a:xfrm>
          </p:grpSpPr>
          <p:grpSp>
            <p:nvGrpSpPr>
              <p:cNvPr id="309" name=""/>
              <p:cNvGrpSpPr/>
              <p:nvPr/>
            </p:nvGrpSpPr>
            <p:grpSpPr>
              <a:xfrm>
                <a:off x="304560" y="1676160"/>
                <a:ext cx="8295840" cy="4689000"/>
                <a:chOff x="304560" y="1676160"/>
                <a:chExt cx="8295840" cy="4689000"/>
              </a:xfrm>
            </p:grpSpPr>
            <p:grpSp>
              <p:nvGrpSpPr>
                <p:cNvPr id="310" name=""/>
                <p:cNvGrpSpPr/>
                <p:nvPr/>
              </p:nvGrpSpPr>
              <p:grpSpPr>
                <a:xfrm>
                  <a:off x="304560" y="1694880"/>
                  <a:ext cx="8295840" cy="4670280"/>
                  <a:chOff x="304560" y="1694880"/>
                  <a:chExt cx="8295840" cy="4670280"/>
                </a:xfrm>
              </p:grpSpPr>
              <p:sp>
                <p:nvSpPr>
                  <p:cNvPr id="311" name=""/>
                  <p:cNvSpPr/>
                  <p:nvPr/>
                </p:nvSpPr>
                <p:spPr>
                  <a:xfrm>
                    <a:off x="7984440" y="6059880"/>
                    <a:ext cx="18504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Q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304560" y="1694880"/>
                    <a:ext cx="8295840" cy="4529160"/>
                    <a:chOff x="304560" y="1694880"/>
                    <a:chExt cx="8295840" cy="4529160"/>
                  </a:xfrm>
                </p:grpSpPr>
                <p:sp>
                  <p:nvSpPr>
                    <p:cNvPr id="313" name=""/>
                    <p:cNvSpPr/>
                    <p:nvPr/>
                  </p:nvSpPr>
                  <p:spPr>
                    <a:xfrm>
                      <a:off x="304560" y="1749960"/>
                      <a:ext cx="14256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14" name=""/>
                    <p:cNvGrpSpPr/>
                    <p:nvPr/>
                  </p:nvGrpSpPr>
                  <p:grpSpPr>
                    <a:xfrm>
                      <a:off x="605880" y="1694880"/>
                      <a:ext cx="7994520" cy="4529160"/>
                      <a:chOff x="605880" y="1694880"/>
                      <a:chExt cx="7994520" cy="4529160"/>
                    </a:xfrm>
                  </p:grpSpPr>
                  <p:grpSp>
                    <p:nvGrpSpPr>
                      <p:cNvPr id="315" name=""/>
                      <p:cNvGrpSpPr/>
                      <p:nvPr/>
                    </p:nvGrpSpPr>
                    <p:grpSpPr>
                      <a:xfrm>
                        <a:off x="605880" y="1749960"/>
                        <a:ext cx="7227720" cy="4474080"/>
                        <a:chOff x="605880" y="1749960"/>
                        <a:chExt cx="7227720" cy="4474080"/>
                      </a:xfrm>
                    </p:grpSpPr>
                    <p:sp>
                      <p:nvSpPr>
                        <p:cNvPr id="316" name=""/>
                        <p:cNvSpPr/>
                        <p:nvPr/>
                      </p:nvSpPr>
                      <p:spPr>
                        <a:xfrm>
                          <a:off x="605880" y="1749960"/>
                          <a:ext cx="0" cy="4474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7" name=""/>
                        <p:cNvSpPr/>
                        <p:nvPr/>
                      </p:nvSpPr>
                      <p:spPr>
                        <a:xfrm>
                          <a:off x="605880" y="6224040"/>
                          <a:ext cx="72277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18" name=""/>
                      <p:cNvSpPr/>
                      <p:nvPr/>
                    </p:nvSpPr>
                    <p:spPr>
                      <a:xfrm>
                        <a:off x="6632280" y="1740960"/>
                        <a:ext cx="527760" cy="347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SRS</a:t>
                        </a:r>
                        <a:r>
                          <a:rPr b="0" lang="en-US" sz="2000" spc="-1" strike="noStrike" baseline="-25000">
                            <a:solidFill>
                              <a:srgbClr val="000000"/>
                            </a:solidFill>
                            <a:latin typeface="Times New Roman"/>
                          </a:rPr>
                          <a:t>0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19" name=""/>
                      <p:cNvGrpSpPr/>
                      <p:nvPr/>
                    </p:nvGrpSpPr>
                    <p:grpSpPr>
                      <a:xfrm>
                        <a:off x="756000" y="1694880"/>
                        <a:ext cx="7844400" cy="4205160"/>
                        <a:chOff x="756000" y="1694880"/>
                        <a:chExt cx="7844400" cy="4205160"/>
                      </a:xfrm>
                    </p:grpSpPr>
                    <p:grpSp>
                      <p:nvGrpSpPr>
                        <p:cNvPr id="320" name=""/>
                        <p:cNvGrpSpPr/>
                        <p:nvPr/>
                      </p:nvGrpSpPr>
                      <p:grpSpPr>
                        <a:xfrm>
                          <a:off x="756360" y="3398040"/>
                          <a:ext cx="7844040" cy="305280"/>
                          <a:chOff x="756360" y="3398040"/>
                          <a:chExt cx="7844040" cy="305280"/>
                        </a:xfrm>
                      </p:grpSpPr>
                      <p:sp>
                        <p:nvSpPr>
                          <p:cNvPr id="321" name=""/>
                          <p:cNvSpPr/>
                          <p:nvPr/>
                        </p:nvSpPr>
                        <p:spPr>
                          <a:xfrm>
                            <a:off x="756360" y="3398040"/>
                            <a:ext cx="7769880" cy="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2" name=""/>
                          <p:cNvSpPr/>
                          <p:nvPr/>
                        </p:nvSpPr>
                        <p:spPr>
                          <a:xfrm>
                            <a:off x="8133480" y="3398040"/>
                            <a:ext cx="466920" cy="305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0" rIns="0" tIns="0" bIns="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LRS</a:t>
                            </a: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23" name=""/>
                        <p:cNvGrpSpPr/>
                        <p:nvPr/>
                      </p:nvGrpSpPr>
                      <p:grpSpPr>
                        <a:xfrm>
                          <a:off x="3315960" y="1740960"/>
                          <a:ext cx="4780440" cy="4159080"/>
                          <a:chOff x="3315960" y="1740960"/>
                          <a:chExt cx="4780440" cy="4159080"/>
                        </a:xfrm>
                      </p:grpSpPr>
                      <p:sp>
                        <p:nvSpPr>
                          <p:cNvPr id="324" name=""/>
                          <p:cNvSpPr/>
                          <p:nvPr/>
                        </p:nvSpPr>
                        <p:spPr>
                          <a:xfrm>
                            <a:off x="3315960" y="1740960"/>
                            <a:ext cx="4366800" cy="397692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96969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5" name=""/>
                          <p:cNvSpPr/>
                          <p:nvPr/>
                        </p:nvSpPr>
                        <p:spPr>
                          <a:xfrm>
                            <a:off x="7836840" y="5553000"/>
                            <a:ext cx="259560" cy="34704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0" rIns="0" tIns="0" bIns="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D</a:t>
                            </a:r>
                            <a:r>
                              <a:rPr b="0" lang="en-US" sz="2000" spc="-1" strike="noStrike" baseline="-25000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0</a:t>
                            </a: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26" name=""/>
                        <p:cNvGrpSpPr/>
                        <p:nvPr/>
                      </p:nvGrpSpPr>
                      <p:grpSpPr>
                        <a:xfrm>
                          <a:off x="756360" y="1906200"/>
                          <a:ext cx="5721480" cy="2486160"/>
                          <a:chOff x="756360" y="1906200"/>
                          <a:chExt cx="5721480" cy="2486160"/>
                        </a:xfrm>
                      </p:grpSpPr>
                      <p:sp>
                        <p:nvSpPr>
                          <p:cNvPr id="327" name=""/>
                          <p:cNvSpPr/>
                          <p:nvPr/>
                        </p:nvSpPr>
                        <p:spPr>
                          <a:xfrm>
                            <a:off x="756360" y="4392360"/>
                            <a:ext cx="3463200" cy="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96969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8" name=""/>
                          <p:cNvSpPr/>
                          <p:nvPr/>
                        </p:nvSpPr>
                        <p:spPr>
                          <a:xfrm flipV="1">
                            <a:off x="4219560" y="1906200"/>
                            <a:ext cx="2258280" cy="248580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96969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29" name=""/>
                        <p:cNvGrpSpPr/>
                        <p:nvPr/>
                      </p:nvGrpSpPr>
                      <p:grpSpPr>
                        <a:xfrm>
                          <a:off x="906840" y="2854800"/>
                          <a:ext cx="2973240" cy="2833560"/>
                          <a:chOff x="906840" y="2854800"/>
                          <a:chExt cx="2973240" cy="2833560"/>
                        </a:xfrm>
                      </p:grpSpPr>
                      <p:sp>
                        <p:nvSpPr>
                          <p:cNvPr id="330" name=""/>
                          <p:cNvSpPr/>
                          <p:nvPr/>
                        </p:nvSpPr>
                        <p:spPr>
                          <a:xfrm>
                            <a:off x="906840" y="2854800"/>
                            <a:ext cx="2710080" cy="265140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1" name=""/>
                          <p:cNvSpPr/>
                          <p:nvPr/>
                        </p:nvSpPr>
                        <p:spPr>
                          <a:xfrm>
                            <a:off x="3620520" y="5341320"/>
                            <a:ext cx="259560" cy="34704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0" rIns="0" tIns="0" bIns="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D</a:t>
                            </a:r>
                            <a:r>
                              <a:rPr b="0" lang="en-US" sz="2000" spc="-1" strike="noStrike" baseline="-25000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1</a:t>
                            </a: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32" name=""/>
                        <p:cNvGrpSpPr/>
                        <p:nvPr/>
                      </p:nvGrpSpPr>
                      <p:grpSpPr>
                        <a:xfrm>
                          <a:off x="756000" y="1694880"/>
                          <a:ext cx="4748040" cy="2651400"/>
                          <a:chOff x="756000" y="1694880"/>
                          <a:chExt cx="4748040" cy="2651400"/>
                        </a:xfrm>
                      </p:grpSpPr>
                      <p:sp>
                        <p:nvSpPr>
                          <p:cNvPr id="333" name=""/>
                          <p:cNvSpPr/>
                          <p:nvPr/>
                        </p:nvSpPr>
                        <p:spPr>
                          <a:xfrm>
                            <a:off x="4976280" y="1694880"/>
                            <a:ext cx="527760" cy="34704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0" rIns="0" tIns="0" bIns="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SRS</a:t>
                            </a:r>
                            <a:r>
                              <a:rPr b="0" lang="en-US" sz="2000" spc="-1" strike="noStrike" baseline="-25000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1</a:t>
                            </a: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4" name=""/>
                          <p:cNvSpPr/>
                          <p:nvPr/>
                        </p:nvSpPr>
                        <p:spPr>
                          <a:xfrm flipV="1">
                            <a:off x="2496600" y="1860480"/>
                            <a:ext cx="2409120" cy="248544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5" name=""/>
                          <p:cNvSpPr/>
                          <p:nvPr/>
                        </p:nvSpPr>
                        <p:spPr>
                          <a:xfrm flipH="1">
                            <a:off x="756000" y="4346280"/>
                            <a:ext cx="1656360" cy="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  <p:sp>
              <p:nvSpPr>
                <p:cNvPr id="336" name=""/>
                <p:cNvSpPr/>
                <p:nvPr/>
              </p:nvSpPr>
              <p:spPr>
                <a:xfrm flipV="1">
                  <a:off x="907200" y="1676160"/>
                  <a:ext cx="1656360" cy="26514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2265480" y="2173320"/>
                  <a:ext cx="527760" cy="34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SRS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1219320" y="3276720"/>
                <a:ext cx="3733200" cy="2395080"/>
                <a:chOff x="1219320" y="3276720"/>
                <a:chExt cx="3733200" cy="2395080"/>
              </a:xfrm>
            </p:grpSpPr>
            <p:sp>
              <p:nvSpPr>
                <p:cNvPr id="339" name=""/>
                <p:cNvSpPr/>
                <p:nvPr/>
              </p:nvSpPr>
              <p:spPr>
                <a:xfrm flipH="1">
                  <a:off x="4800240" y="3581280"/>
                  <a:ext cx="152280" cy="152640"/>
                </a:xfrm>
                <a:prstGeom prst="line">
                  <a:avLst/>
                </a:prstGeom>
                <a:ln w="63360">
                  <a:solidFill>
                    <a:srgbClr val="80808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flipH="1">
                  <a:off x="4495680" y="3962520"/>
                  <a:ext cx="152640" cy="152280"/>
                </a:xfrm>
                <a:prstGeom prst="line">
                  <a:avLst/>
                </a:prstGeom>
                <a:ln w="63360">
                  <a:solidFill>
                    <a:srgbClr val="80808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H="1">
                  <a:off x="3657600" y="4359240"/>
                  <a:ext cx="380880" cy="0"/>
                </a:xfrm>
                <a:prstGeom prst="line">
                  <a:avLst/>
                </a:prstGeom>
                <a:ln w="63360">
                  <a:solidFill>
                    <a:srgbClr val="80808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H="1">
                  <a:off x="2819520" y="4419720"/>
                  <a:ext cx="380880" cy="0"/>
                </a:xfrm>
                <a:prstGeom prst="line">
                  <a:avLst/>
                </a:prstGeom>
                <a:ln w="63360">
                  <a:solidFill>
                    <a:srgbClr val="80808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V="1">
                  <a:off x="1600200" y="4648320"/>
                  <a:ext cx="609480" cy="761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1219320" y="5029200"/>
                  <a:ext cx="16761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SR adjustmen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295280" y="3276720"/>
                  <a:ext cx="304920" cy="368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286000" y="4191120"/>
                  <a:ext cx="304920" cy="368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7" name=""/>
            <p:cNvSpPr/>
            <p:nvPr/>
          </p:nvSpPr>
          <p:spPr>
            <a:xfrm flipH="1" flipV="1">
              <a:off x="2057040" y="3962160"/>
              <a:ext cx="152280" cy="1522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 flipV="1">
              <a:off x="1752480" y="3657240"/>
              <a:ext cx="152640" cy="1522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rnal Economy of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ize of the industry may affect individual firm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y of scale in input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dding up price of scarce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 economy of scale means LRATC is decreasing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Long-run Dyna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838080" y="1447920"/>
            <a:ext cx="8076600" cy="5104080"/>
            <a:chOff x="838080" y="1447920"/>
            <a:chExt cx="8076600" cy="5104080"/>
          </a:xfrm>
        </p:grpSpPr>
        <p:grpSp>
          <p:nvGrpSpPr>
            <p:cNvPr id="353" name=""/>
            <p:cNvGrpSpPr/>
            <p:nvPr/>
          </p:nvGrpSpPr>
          <p:grpSpPr>
            <a:xfrm>
              <a:off x="2036160" y="1447920"/>
              <a:ext cx="3092400" cy="4266000"/>
              <a:chOff x="2036160" y="1447920"/>
              <a:chExt cx="3092400" cy="4266000"/>
            </a:xfrm>
          </p:grpSpPr>
          <p:sp>
            <p:nvSpPr>
              <p:cNvPr id="354" name=""/>
              <p:cNvSpPr/>
              <p:nvPr/>
            </p:nvSpPr>
            <p:spPr>
              <a:xfrm>
                <a:off x="4565160" y="1447920"/>
                <a:ext cx="563400" cy="51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RS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2435400" y="1614240"/>
                <a:ext cx="1996920" cy="2503080"/>
              </a:xfrm>
              <a:prstGeom prst="line">
                <a:avLst/>
              </a:prstGeom>
              <a:ln w="255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6" name=""/>
              <p:cNvGrpSpPr/>
              <p:nvPr/>
            </p:nvGrpSpPr>
            <p:grpSpPr>
              <a:xfrm>
                <a:off x="2036160" y="1864800"/>
                <a:ext cx="3002400" cy="3849120"/>
                <a:chOff x="2036160" y="1864800"/>
                <a:chExt cx="3002400" cy="384912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2036160" y="1864800"/>
                  <a:ext cx="2395800" cy="3504600"/>
                </a:xfrm>
                <a:prstGeom prst="line">
                  <a:avLst/>
                </a:prstGeom>
                <a:ln w="255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4431960" y="5202360"/>
                  <a:ext cx="606600" cy="51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SRD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9" name=""/>
            <p:cNvGrpSpPr/>
            <p:nvPr/>
          </p:nvGrpSpPr>
          <p:grpSpPr>
            <a:xfrm>
              <a:off x="838080" y="1948320"/>
              <a:ext cx="8076600" cy="4603680"/>
              <a:chOff x="838080" y="1948320"/>
              <a:chExt cx="8076600" cy="4603680"/>
            </a:xfrm>
          </p:grpSpPr>
          <p:grpSp>
            <p:nvGrpSpPr>
              <p:cNvPr id="360" name=""/>
              <p:cNvGrpSpPr/>
              <p:nvPr/>
            </p:nvGrpSpPr>
            <p:grpSpPr>
              <a:xfrm>
                <a:off x="2169360" y="1987920"/>
                <a:ext cx="6612480" cy="3849120"/>
                <a:chOff x="2169360" y="1987920"/>
                <a:chExt cx="6612480" cy="38491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8159760" y="4991760"/>
                  <a:ext cx="62208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c0c0c0"/>
                      </a:solidFill>
                      <a:latin typeface="Times New Roman"/>
                    </a:rPr>
                    <a:t>LRD</a:t>
                  </a:r>
                  <a:r>
                    <a:rPr b="0" lang="en-US" sz="2000" spc="-1" strike="noStrike" baseline="-25000">
                      <a:solidFill>
                        <a:srgbClr val="c0c0c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169360" y="1987920"/>
                  <a:ext cx="5990400" cy="3170880"/>
                </a:xfrm>
                <a:prstGeom prst="line">
                  <a:avLst/>
                </a:prstGeom>
                <a:ln w="25560">
                  <a:solidFill>
                    <a:srgbClr val="c0c0c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4032720" y="1987920"/>
                  <a:ext cx="2396160" cy="3504240"/>
                </a:xfrm>
                <a:prstGeom prst="line">
                  <a:avLst/>
                </a:prstGeom>
                <a:ln w="25560">
                  <a:solidFill>
                    <a:srgbClr val="c0c0c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6429240" y="5325480"/>
                  <a:ext cx="606600" cy="51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c0c0c0"/>
                      </a:solidFill>
                      <a:latin typeface="Times New Roman"/>
                    </a:rPr>
                    <a:t>SRD</a:t>
                  </a:r>
                  <a:r>
                    <a:rPr b="0" lang="en-US" sz="2000" spc="-1" strike="noStrike" baseline="-25000">
                      <a:solidFill>
                        <a:srgbClr val="c0c0c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838080" y="1948320"/>
                <a:ext cx="8076600" cy="4603680"/>
                <a:chOff x="838080" y="1948320"/>
                <a:chExt cx="8076600" cy="4603680"/>
              </a:xfrm>
            </p:grpSpPr>
            <p:grpSp>
              <p:nvGrpSpPr>
                <p:cNvPr id="366" name=""/>
                <p:cNvGrpSpPr/>
                <p:nvPr/>
              </p:nvGrpSpPr>
              <p:grpSpPr>
                <a:xfrm>
                  <a:off x="838080" y="1948320"/>
                  <a:ext cx="8076600" cy="4603680"/>
                  <a:chOff x="838080" y="1948320"/>
                  <a:chExt cx="8076600" cy="4603680"/>
                </a:xfrm>
              </p:grpSpPr>
              <p:grpSp>
                <p:nvGrpSpPr>
                  <p:cNvPr id="367" name=""/>
                  <p:cNvGrpSpPr/>
                  <p:nvPr/>
                </p:nvGrpSpPr>
                <p:grpSpPr>
                  <a:xfrm>
                    <a:off x="838080" y="1948320"/>
                    <a:ext cx="8076600" cy="4603680"/>
                    <a:chOff x="838080" y="1948320"/>
                    <a:chExt cx="8076600" cy="4603680"/>
                  </a:xfrm>
                </p:grpSpPr>
                <p:grpSp>
                  <p:nvGrpSpPr>
                    <p:cNvPr id="368" name=""/>
                    <p:cNvGrpSpPr/>
                    <p:nvPr/>
                  </p:nvGrpSpPr>
                  <p:grpSpPr>
                    <a:xfrm>
                      <a:off x="838080" y="1957320"/>
                      <a:ext cx="6981840" cy="4594680"/>
                      <a:chOff x="838080" y="1957320"/>
                      <a:chExt cx="6981840" cy="4594680"/>
                    </a:xfrm>
                  </p:grpSpPr>
                  <p:sp>
                    <p:nvSpPr>
                      <p:cNvPr id="369" name=""/>
                      <p:cNvSpPr/>
                      <p:nvPr/>
                    </p:nvSpPr>
                    <p:spPr>
                      <a:xfrm>
                        <a:off x="7627320" y="6296400"/>
                        <a:ext cx="192600" cy="255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Q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0" name=""/>
                      <p:cNvSpPr/>
                      <p:nvPr/>
                    </p:nvSpPr>
                    <p:spPr>
                      <a:xfrm>
                        <a:off x="838080" y="1957320"/>
                        <a:ext cx="148320" cy="255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P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1" name=""/>
                      <p:cNvSpPr/>
                      <p:nvPr/>
                    </p:nvSpPr>
                    <p:spPr>
                      <a:xfrm>
                        <a:off x="1104120" y="1957320"/>
                        <a:ext cx="0" cy="45057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2" name=""/>
                      <p:cNvSpPr/>
                      <p:nvPr/>
                    </p:nvSpPr>
                    <p:spPr>
                      <a:xfrm>
                        <a:off x="1104120" y="6463080"/>
                        <a:ext cx="638964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73" name=""/>
                    <p:cNvGrpSpPr/>
                    <p:nvPr/>
                  </p:nvGrpSpPr>
                  <p:grpSpPr>
                    <a:xfrm>
                      <a:off x="6429240" y="1948320"/>
                      <a:ext cx="1819800" cy="2180160"/>
                      <a:chOff x="6429240" y="1948320"/>
                      <a:chExt cx="1819800" cy="2180160"/>
                    </a:xfrm>
                  </p:grpSpPr>
                  <p:sp>
                    <p:nvSpPr>
                      <p:cNvPr id="374" name=""/>
                      <p:cNvSpPr/>
                      <p:nvPr/>
                    </p:nvSpPr>
                    <p:spPr>
                      <a:xfrm>
                        <a:off x="6429240" y="1948320"/>
                        <a:ext cx="563400" cy="511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999999"/>
                            </a:solidFill>
                            <a:latin typeface="Times New Roman"/>
                          </a:rPr>
                          <a:t>SRS</a:t>
                        </a:r>
                        <a:r>
                          <a:rPr b="0" lang="en-US" sz="2000" spc="-1" strike="noStrike" baseline="-25000">
                            <a:solidFill>
                              <a:srgbClr val="999999"/>
                            </a:solidFill>
                            <a:latin typeface="Times New Roman"/>
                          </a:rPr>
                          <a:t>0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5" name=""/>
                      <p:cNvSpPr/>
                      <p:nvPr/>
                    </p:nvSpPr>
                    <p:spPr>
                      <a:xfrm>
                        <a:off x="7760160" y="3616920"/>
                        <a:ext cx="488880" cy="511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LRS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76" name=""/>
                    <p:cNvSpPr/>
                    <p:nvPr/>
                  </p:nvSpPr>
                  <p:spPr>
                    <a:xfrm flipV="1">
                      <a:off x="4299120" y="2114640"/>
                      <a:ext cx="1996920" cy="2503080"/>
                    </a:xfrm>
                    <a:prstGeom prst="line">
                      <a:avLst/>
                    </a:prstGeom>
                    <a:ln w="25560">
                      <a:solidFill>
                        <a:srgbClr val="969696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>
                      <a:off x="1503720" y="3033000"/>
                      <a:ext cx="6789240" cy="100116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78" name=""/>
                    <p:cNvGrpSpPr/>
                    <p:nvPr/>
                  </p:nvGrpSpPr>
                  <p:grpSpPr>
                    <a:xfrm>
                      <a:off x="2302200" y="2365200"/>
                      <a:ext cx="6612480" cy="3849840"/>
                      <a:chOff x="2302200" y="2365200"/>
                      <a:chExt cx="6612480" cy="3849840"/>
                    </a:xfrm>
                  </p:grpSpPr>
                  <p:grpSp>
                    <p:nvGrpSpPr>
                      <p:cNvPr id="379" name=""/>
                      <p:cNvGrpSpPr/>
                      <p:nvPr/>
                    </p:nvGrpSpPr>
                    <p:grpSpPr>
                      <a:xfrm>
                        <a:off x="2302200" y="2865960"/>
                        <a:ext cx="6612480" cy="3259440"/>
                        <a:chOff x="2302200" y="2865960"/>
                        <a:chExt cx="6612480" cy="3259440"/>
                      </a:xfrm>
                    </p:grpSpPr>
                    <p:sp>
                      <p:nvSpPr>
                        <p:cNvPr id="380" name=""/>
                        <p:cNvSpPr/>
                        <p:nvPr/>
                      </p:nvSpPr>
                      <p:spPr>
                        <a:xfrm>
                          <a:off x="8292600" y="5869800"/>
                          <a:ext cx="622080" cy="255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LRD</a:t>
                          </a:r>
                          <a:r>
                            <a:rPr b="0" lang="en-US" sz="2000" spc="-1" strike="noStrike" baseline="-25000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1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1" name=""/>
                        <p:cNvSpPr/>
                        <p:nvPr/>
                      </p:nvSpPr>
                      <p:spPr>
                        <a:xfrm>
                          <a:off x="2302200" y="2865960"/>
                          <a:ext cx="5990400" cy="317088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82" name=""/>
                      <p:cNvGrpSpPr/>
                      <p:nvPr/>
                    </p:nvGrpSpPr>
                    <p:grpSpPr>
                      <a:xfrm>
                        <a:off x="3899520" y="2365200"/>
                        <a:ext cx="3002400" cy="3849840"/>
                        <a:chOff x="3899520" y="2365200"/>
                        <a:chExt cx="3002400" cy="3849840"/>
                      </a:xfrm>
                    </p:grpSpPr>
                    <p:sp>
                      <p:nvSpPr>
                        <p:cNvPr id="383" name=""/>
                        <p:cNvSpPr/>
                        <p:nvPr/>
                      </p:nvSpPr>
                      <p:spPr>
                        <a:xfrm>
                          <a:off x="3899520" y="2365200"/>
                          <a:ext cx="2395800" cy="350460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969696"/>
                          </a:solidFill>
                          <a:prstDash val="sysDot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4" name=""/>
                        <p:cNvSpPr/>
                        <p:nvPr/>
                      </p:nvSpPr>
                      <p:spPr>
                        <a:xfrm>
                          <a:off x="6295320" y="5703120"/>
                          <a:ext cx="606600" cy="5119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2000" spc="-1" strike="noStrike">
                              <a:solidFill>
                                <a:srgbClr val="999999"/>
                              </a:solidFill>
                              <a:latin typeface="Times New Roman"/>
                            </a:rPr>
                            <a:t>SRD</a:t>
                          </a:r>
                          <a:r>
                            <a:rPr b="0" lang="en-US" sz="2000" spc="-1" strike="noStrike" baseline="-25000">
                              <a:solidFill>
                                <a:srgbClr val="999999"/>
                              </a:solidFill>
                              <a:latin typeface="Times New Roman"/>
                            </a:rPr>
                            <a:t>1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385" name=""/>
                  <p:cNvSpPr/>
                  <p:nvPr/>
                </p:nvSpPr>
                <p:spPr>
                  <a:xfrm>
                    <a:off x="4831560" y="3700440"/>
                    <a:ext cx="150840" cy="26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5097960" y="3413160"/>
                    <a:ext cx="150840" cy="26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7" name=""/>
                <p:cNvSpPr/>
                <p:nvPr/>
              </p:nvSpPr>
              <p:spPr>
                <a:xfrm>
                  <a:off x="2967840" y="3116520"/>
                  <a:ext cx="150480" cy="26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56480" y="1447920"/>
            <a:ext cx="7819200" cy="4616280"/>
            <a:chOff x="456480" y="1447920"/>
            <a:chExt cx="7819200" cy="4616280"/>
          </a:xfrm>
        </p:grpSpPr>
        <p:sp>
          <p:nvSpPr>
            <p:cNvPr id="390" name=""/>
            <p:cNvSpPr/>
            <p:nvPr/>
          </p:nvSpPr>
          <p:spPr>
            <a:xfrm>
              <a:off x="6743880" y="5684040"/>
              <a:ext cx="58212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456480" y="1447920"/>
              <a:ext cx="7819200" cy="4616280"/>
              <a:chOff x="456480" y="1447920"/>
              <a:chExt cx="7819200" cy="4616280"/>
            </a:xfrm>
          </p:grpSpPr>
          <p:sp>
            <p:nvSpPr>
              <p:cNvPr id="392" name=""/>
              <p:cNvSpPr/>
              <p:nvPr/>
            </p:nvSpPr>
            <p:spPr>
              <a:xfrm>
                <a:off x="7341120" y="5259600"/>
                <a:ext cx="5097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R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3" name=""/>
              <p:cNvGrpSpPr/>
              <p:nvPr/>
            </p:nvGrpSpPr>
            <p:grpSpPr>
              <a:xfrm>
                <a:off x="456480" y="1521720"/>
                <a:ext cx="7819200" cy="4542480"/>
                <a:chOff x="456480" y="1521720"/>
                <a:chExt cx="7819200" cy="454248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8090640" y="5758920"/>
                  <a:ext cx="1850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456480" y="1521720"/>
                  <a:ext cx="1425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56360" y="1521720"/>
                  <a:ext cx="0" cy="4398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56360" y="5920560"/>
                  <a:ext cx="7184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8" name=""/>
              <p:cNvSpPr/>
              <p:nvPr/>
            </p:nvSpPr>
            <p:spPr>
              <a:xfrm>
                <a:off x="906120" y="1512720"/>
                <a:ext cx="7034760" cy="4236120"/>
              </a:xfrm>
              <a:custGeom>
                <a:avLst/>
                <a:gdLst/>
                <a:ahLst/>
                <a:rect l="l" t="t" r="r" b="b"/>
                <a:pathLst>
                  <a:path w="5640" h="4680">
                    <a:moveTo>
                      <a:pt x="0" y="0"/>
                    </a:moveTo>
                    <a:cubicBezTo>
                      <a:pt x="130" y="1320"/>
                      <a:pt x="260" y="2640"/>
                      <a:pt x="1200" y="3420"/>
                    </a:cubicBezTo>
                    <a:cubicBezTo>
                      <a:pt x="2140" y="4200"/>
                      <a:pt x="3890" y="4440"/>
                      <a:pt x="5640" y="468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055880" y="1675800"/>
                <a:ext cx="6885360" cy="4236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759960" y="1512720"/>
                <a:ext cx="744840" cy="4399200"/>
                <a:chOff x="759960" y="1512720"/>
                <a:chExt cx="744840" cy="439920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759960" y="5423040"/>
                  <a:ext cx="527760" cy="34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808080"/>
                      </a:solidFill>
                      <a:latin typeface="Times New Roman"/>
                    </a:rPr>
                    <a:t>SRS</a:t>
                  </a:r>
                  <a:r>
                    <a:rPr b="0" lang="en-US" sz="2000" spc="-1" strike="noStrike" baseline="-25000">
                      <a:solidFill>
                        <a:srgbClr val="80808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504800" y="1512720"/>
                  <a:ext cx="0" cy="439920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1205640" y="1447920"/>
                <a:ext cx="2970720" cy="4399200"/>
                <a:chOff x="1205640" y="1447920"/>
                <a:chExt cx="2970720" cy="439920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3605760" y="5423400"/>
                  <a:ext cx="570600" cy="34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808080"/>
                      </a:solidFill>
                      <a:latin typeface="Times New Roman"/>
                    </a:rPr>
                    <a:t>SRD</a:t>
                  </a:r>
                  <a:r>
                    <a:rPr b="0" lang="en-US" sz="2000" spc="-1" strike="noStrike" baseline="-25000">
                      <a:solidFill>
                        <a:srgbClr val="80808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1205640" y="1447920"/>
                  <a:ext cx="2544480" cy="439920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2106360" y="1512720"/>
                <a:ext cx="745560" cy="4399200"/>
                <a:chOff x="2106360" y="1512720"/>
                <a:chExt cx="745560" cy="439920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2106360" y="5423040"/>
                  <a:ext cx="527760" cy="34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808080"/>
                      </a:solidFill>
                      <a:latin typeface="Times New Roman"/>
                    </a:rPr>
                    <a:t>SRS</a:t>
                  </a:r>
                  <a:r>
                    <a:rPr b="0" lang="en-US" sz="2000" spc="-1" strike="noStrike" baseline="-25000">
                      <a:solidFill>
                        <a:srgbClr val="80808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851920" y="1512720"/>
                  <a:ext cx="0" cy="439920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9" name=""/>
              <p:cNvSpPr/>
              <p:nvPr/>
            </p:nvSpPr>
            <p:spPr>
              <a:xfrm>
                <a:off x="1359360" y="1773360"/>
                <a:ext cx="165600" cy="34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360" rIns="18360" tIns="18360" bIns="18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706840" y="4120560"/>
                <a:ext cx="165600" cy="34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360" rIns="18360" tIns="18360" bIns="18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"/>
              <p:cNvGrpSpPr/>
              <p:nvPr/>
            </p:nvGrpSpPr>
            <p:grpSpPr>
              <a:xfrm>
                <a:off x="2103480" y="1512720"/>
                <a:ext cx="2966040" cy="4399200"/>
                <a:chOff x="2103480" y="1512720"/>
                <a:chExt cx="2966040" cy="439920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4498920" y="5488200"/>
                  <a:ext cx="570600" cy="34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808080"/>
                      </a:solidFill>
                      <a:latin typeface="Times New Roman"/>
                    </a:rPr>
                    <a:t>SRD</a:t>
                  </a:r>
                  <a:r>
                    <a:rPr b="0" lang="en-US" sz="2000" spc="-1" strike="noStrike" baseline="-25000">
                      <a:solidFill>
                        <a:srgbClr val="80808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103480" y="1512720"/>
                  <a:ext cx="2544480" cy="439920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"/>
              <p:cNvSpPr/>
              <p:nvPr/>
            </p:nvSpPr>
            <p:spPr>
              <a:xfrm>
                <a:off x="2706840" y="2654280"/>
                <a:ext cx="165600" cy="34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360" rIns="18360" tIns="18360" bIns="18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y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ic c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able music p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tional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rietorship: decisions made by ow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hip: voting and nego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oration: dele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holders elect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ard chooses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makes most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large decisions require board v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ion of ownership and contro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ion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a single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bb-Dougl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propor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ect comp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ect Substitutes arises when the components enter additively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990720" y="2590920"/>
                <a:ext cx="65530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 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914400" y="3962520"/>
                <a:ext cx="73915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bb-Douglas Isoqu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67820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ginal Produ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al product of capital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sometimes de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inputs more readily changed than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nged in short-run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long-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6324480" y="1447920"/>
                <a:ext cx="162576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257800" y="2590920"/>
                <a:ext cx="30020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ments and Substitu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amount of a complement increases productivity of another inpu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it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066680" y="2743200"/>
                <a:ext cx="12956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K</m:t>
                        </m:r>
                        <m:r>
                          <m:t xml:space="preserve">∂</m:t>
                        </m:r>
                        <m:r>
                          <m:t xml:space="preserve">L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219320" y="4724280"/>
                <a:ext cx="12952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K</m:t>
                        </m:r>
                        <m:r>
                          <m:t xml:space="preserve">∂</m:t>
                        </m:r>
                        <m:r>
                          <m:t xml:space="preserve">L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 Run Profit  Max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4640" y="2514240"/>
            <a:ext cx="1676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609480" y="1600200"/>
                <a:ext cx="480060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K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w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09480" y="2362320"/>
                <a:ext cx="441972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p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L</m:t>
                        </m:r>
                      </m:den>
                    </m:f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∗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09480" y="3581280"/>
                <a:ext cx="449604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≥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π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∂</m:t>
                        </m:r>
                        <m:r>
                          <m:t xml:space="preserve">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p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∂</m:t>
                        </m:r>
                        <m:r>
                          <m:t xml:space="preserve">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∗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5791320" y="3809880"/>
            <a:ext cx="1676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04:47:41Z</dcterms:created>
  <dc:creator>Randolph P McAfee</dc:creator>
  <dc:description/>
  <dc:language>en-US</dc:language>
  <cp:lastModifiedBy>Randolph P McAfee</cp:lastModifiedBy>
  <dcterms:modified xsi:type="dcterms:W3CDTF">2005-01-19T17:44:48Z</dcterms:modified>
  <cp:revision>24</cp:revision>
  <dc:subject/>
  <dc:title>Supply &amp; Demand</dc:title>
</cp:coreProperties>
</file>